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4.xml.rels" ContentType="application/vnd.openxmlformats-package.relationships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20.png" ContentType="image/png"/>
  <Override PartName="/ppt/media/image18.wmf" ContentType="image/x-wmf"/>
  <Override PartName="/ppt/media/image19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3.png" ContentType="image/png"/>
  <Override PartName="/ppt/media/image29.wmf" ContentType="image/x-wmf"/>
  <Override PartName="/ppt/media/image11.png" ContentType="image/png"/>
  <Override PartName="/ppt/media/image48.wmf" ContentType="image/x-wmf"/>
  <Override PartName="/ppt/media/image13.wmf" ContentType="image/x-wmf"/>
  <Override PartName="/ppt/media/image30.wmf" ContentType="image/x-wmf"/>
  <Override PartName="/ppt/media/image50.wmf" ContentType="image/x-wmf"/>
  <Override PartName="/ppt/media/image10.png" ContentType="image/png"/>
  <Override PartName="/ppt/media/image28.wmf" ContentType="image/x-wmf"/>
  <Override PartName="/ppt/media/image34.wmf" ContentType="image/x-wmf"/>
  <Override PartName="/ppt/media/image14.png" ContentType="image/png"/>
  <Override PartName="/ppt/media/image40.wmf" ContentType="image/x-wmf"/>
  <Override PartName="/ppt/media/image41.wmf" ContentType="image/x-wmf"/>
  <Override PartName="/ppt/media/image9.wmf" ContentType="image/x-wmf"/>
  <Override PartName="/ppt/media/image39.wmf" ContentType="image/x-wmf"/>
  <Override PartName="/ppt/media/image42.png" ContentType="image/png"/>
  <Override PartName="/ppt/media/image43.wmf" ContentType="image/x-wmf"/>
  <Override PartName="/ppt/media/image44.wmf" ContentType="image/x-wmf"/>
  <Override PartName="/ppt/media/image33.wmf" ContentType="image/x-wmf"/>
  <Override PartName="/ppt/media/image38.wmf" ContentType="image/x-wmf"/>
  <Override PartName="/ppt/media/image8.wmf" ContentType="image/x-wmf"/>
  <Override PartName="/ppt/media/image45.wmf" ContentType="image/x-wmf"/>
  <Override PartName="/ppt/media/image46.png" ContentType="image/png"/>
  <Override PartName="/ppt/media/image47.wmf" ContentType="image/x-wmf"/>
  <Override PartName="/ppt/media/image4.png" ContentType="image/png"/>
  <Override PartName="/ppt/media/image5.wmf" ContentType="image/x-wmf"/>
  <Override PartName="/ppt/media/image35.wmf" ContentType="image/x-wmf"/>
  <Override PartName="/ppt/media/image12.wmf" ContentType="image/x-wmf"/>
  <Override PartName="/ppt/media/image49.wmf" ContentType="image/x-wmf"/>
  <Override PartName="/ppt/media/image37.wmf" ContentType="image/x-wmf"/>
  <Override PartName="/ppt/media/image7.wmf" ContentType="image/x-wmf"/>
  <Override PartName="/ppt/media/image6.wmf" ContentType="image/x-wmf"/>
  <Override PartName="/ppt/media/image36.wmf" ContentType="image/x-wmf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1.bin" ContentType="application/vnd.openxmlformats-officedocument.oleObject"/>
  <Override PartName="/ppt/embeddings/oleObject3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A01D6-8B71-46EE-AB5C-00B21ADD0F40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hyperlink" Target="http://www.fsb.unizg.hr/atlantis/upload/newsboard/01_01_2012__9063_Kontrola_kvalitete.pdf" TargetMode="External"/><Relationship Id="rId2" Type="http://schemas.openxmlformats.org/officeDocument/2006/relationships/slide" Target="../slides/slide12.xml"/><Relationship Id="rId3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crnarupa.singidunum.ac.rs/Elektronska%20biblioteka/I%20godina%202009%20-%2010/FIM/In&#382;enjerski%20menad&#382;ment/Osnove%20in&#382;enjerstva%20-%20Prof.%20dr%20Milenko%20Heleta/Osnove%20inzenjerstva%20-%20UDZBENIK.pdf" TargetMode="External"/><Relationship Id="rId2" Type="http://schemas.openxmlformats.org/officeDocument/2006/relationships/slide" Target="../slides/slide5.xml"/><Relationship Id="rId3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900" spc="-1" strike="noStrike">
                <a:solidFill>
                  <a:srgbClr val="000000"/>
                </a:solidFill>
                <a:latin typeface="Arial"/>
              </a:rPr>
              <a:t>Izvor :KONTROLA KVALITE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900" spc="-1" strike="noStrike">
                <a:solidFill>
                  <a:srgbClr val="000000"/>
                </a:solidFill>
                <a:latin typeface="Arial"/>
              </a:rPr>
              <a:t>Prof.dr.sc.Vedran Mudronj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fsb.unizg.hr/atlantis/upload/newsboard/01_01_2012__9063_Kontrola_kvalitete.pdf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Kontrolne karte za mjerljive karakteristik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kar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􀂾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je uvid u kretanje procesa na osnovu statističke teorije i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jerojatnosti, a njom se registriraju dva važna pokazatelja procesa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kretanje aritmetičkih sredina uzoraka 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kretanje raspona uzoraka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􀂾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vi podatak daje uvid u centriranost procesa, dok drugi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 govori o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jegovom rasipanj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􀂾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mjena joj dolazi kod izražaja kod serijske i velikoserijske komadne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izvodnje gdje se kontrola svodi na mjerenje malih uzoraka (n=2 do 10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omada), te su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oškovi kontrole znatno smanjeni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􀂾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a osnovu krivulje normalne razdiobe moguće je sagledati kako se dolazi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 kontrolnih granica i na čemu se temelji osjetljivost ove kart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kar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􀂾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sto kao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i tako i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karta prati dvije karakteristike procesa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njegovu centriranost preko kretanja aritmetičkih sredina uzorak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njegovo rasipanje preko kretanja standardnih odstupanj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􀂾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udući da se računaju standardna odstupanja uzoraka, uzorci trebaju biti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eći nego kod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sr-Latn-C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karte. Tako se preporuča da veličina uzorka bude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eća od 25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􀂾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oga se ove karte primjenjuju u procesima koji su zaokruženog tipa i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dvijaju se u zatvorenim ciklusima određene dužine trajanja kada se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ces ne može pratiti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k je ciklus u toku, nego se na kraju ciklusa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gu uzeti veći uzorci i koristeći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sr-Latn-C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arte donositi zaključke o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cesu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Izvor: https://cyberleninka.ru/article/n/kontrolne-karte-kao-sredstvo-statisti-ke-kontrole-kvaliteta.pd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* Izvor: </a:t>
            </a:r>
            <a:r>
              <a:rPr b="0" i="1" lang="sr-Latn-CS" sz="900" spc="-1" strike="noStrike">
                <a:solidFill>
                  <a:srgbClr val="000000"/>
                </a:solidFill>
                <a:latin typeface="Arial"/>
              </a:rPr>
              <a:t>http://cent.mas.bg.ac.rs/nastava/statut99/ukp/predavanja/predavanja07.pd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ablica 1. Izvor: https://www.fsb.unizg.hr/atlantis/upload/newsboard/15_06_2010__10631_PREDAVANJA_OOK2009.pd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Izvor: https://cyberleninka.ru/article/n/kontrolne-karte-kao-sredstvo-statisti-ke-kontrole-kvaliteta.pd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* Izvor: </a:t>
            </a:r>
            <a:r>
              <a:rPr b="0" i="1" lang="sr-Latn-CS" sz="900" spc="-1" strike="noStrike">
                <a:solidFill>
                  <a:srgbClr val="000000"/>
                </a:solidFill>
                <a:latin typeface="Arial"/>
              </a:rPr>
              <a:t>http://cent.mas.bg.ac.rs/nastava/statut99/ukp/predavanja/predavanja07.pd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ablica 1. Izvor: https://www.fsb.unizg.hr/atlantis/upload/newsboard/15_06_2010__10631_PREDAVANJA_OOK2009.pd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Izvor: https://cyberleninka.ru/article/n/kontrolne-karte-kao-sredstvo-statisti-ke-kontrole-kvaliteta.pd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* Izvor: </a:t>
            </a:r>
            <a:r>
              <a:rPr b="0" i="1" lang="sr-Latn-CS" sz="900" spc="-1" strike="noStrike">
                <a:solidFill>
                  <a:srgbClr val="000000"/>
                </a:solidFill>
                <a:latin typeface="Arial"/>
              </a:rPr>
              <a:t>http://cent.mas.bg.ac.rs/nastava/statut99/ukp/predavanja/predavanja07.pd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ablica 2. Izvor: https://www.fsb.unizg.hr/atlantis/upload/newsboard/15_06_2010__10631_PREDAVANJA_OOK2009.pd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Izvor: https://cyberleninka.ru/article/n/kontrolne-karte-kao-sredstvo-statisti-ke-kontrole-kvaliteta.pd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* Izvor: </a:t>
            </a:r>
            <a:r>
              <a:rPr b="0" i="1" lang="sr-Latn-CS" sz="900" spc="-1" strike="noStrike">
                <a:solidFill>
                  <a:srgbClr val="000000"/>
                </a:solidFill>
                <a:latin typeface="Arial"/>
              </a:rPr>
              <a:t>http://cent.mas.bg.ac.rs/nastava/statut99/ukp/predavanja/predavanja07.pd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ablica 1. Izvor: https://www.fsb.unizg.hr/atlantis/upload/newsboard/15_06_2010__10631_PREDAVANJA_OOK2009.pd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900" spc="-1" strike="noStrike">
                <a:solidFill>
                  <a:srgbClr val="000000"/>
                </a:solidFill>
                <a:latin typeface="Arial"/>
              </a:rPr>
              <a:t>Izvor :KONTROLA KVALITE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900" spc="-1" strike="noStrike">
                <a:solidFill>
                  <a:srgbClr val="000000"/>
                </a:solidFill>
                <a:latin typeface="Arial"/>
              </a:rPr>
              <a:t>Prof.dr.sc.Vedran Mudronj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ttp://www.fsb.unizg.hr/atlantis/upload/newsboard/01_01_2012__9063_Kontrola_kvalitete.pdf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Kontrolne karte za mjerljive karakteristik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kar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􀂾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je uvid u kretanje procesa na osnovu statističke teorije i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jerojatnosti, a njom se registriraju dva važna pokazatelja procesa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kretanje aritmetičkih sredina uzoraka 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kretanje raspona uzoraka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􀂾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vi podatak daje uvid u centriranost procesa, dok drugi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 govori o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jegovom rasipanj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􀂾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mjena joj dolazi kod izražaja kod serijske i velikoserijske komadne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izvodnje gdje se kontrola svodi na mjerenje malih uzoraka (n=2 do 10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omada), te su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oškovi kontrole znatno smanjeni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􀂾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a osnovu krivulje normalne razdiobe moguće je sagledati kako se dolazi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 kontrolnih granica i na čemu se temelji osjetljivost ove kart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kar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􀂾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sto kao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i tako i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karta prati dvije karakteristike procesa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njegovu centriranost preko kretanja aritmetičkih sredina uzorak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njegovo rasipanje preko kretanja standardnih odstupanj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􀂾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udući da se računaju standardna odstupanja uzoraka, uzorci trebaju biti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eći nego kod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sr-Latn-C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karte. Tako se preporuča da veličina uzorka bude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eća od 25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􀂾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oga se ove karte primjenjuju u procesima koji su zaokruženog tipa i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dvijaju se u zatvorenim ciklusima određene dužine trajanja kada se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ces ne može pratiti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k je ciklus u toku, nego se na kraju ciklusa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ogu uzeti veći uzorci i koristeći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sr-Latn-C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arte donositi zaključke o</a:t>
            </a: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cesu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Izvor: Krivokapic,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67BC3-B58B-4926-8765-DE4EA7290A46}" type="slidenum">
              <a:rPr b="0" lang="hr-H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to princip se zasniva na nejednakoj raspodeli stvari u univerzumu. Ovaj princip tvrdi da 80% od celine vodi porekl</a:t>
            </a: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d značajne manjine, dok samo 20% vodi poreklo od trivijalne većine</a:t>
            </a: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o pravilo je postavio italijanski ekonomista Vilfredo Pareto u kasnom devetnaestom veku. Ustanovio je da je distribucija dobara u društvu neravnopravna: većinu novca je držao mali broj ljudi. Ovo pravilo je primenljivo i u drugim oblastima biznisa i, konačno, i u kontroli (i upravljanju) kvalite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.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asfak.ni.ac.rs/images/upload/Upis/MAS_prirpemna_n/uvod_u_m_-_pripremna/5._Alati_kvaliteta-Pareto_metoda.pdf</a:t>
            </a: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Izvor: Sa gradjevinskog fakulteta Beograd o upravljanju kvalite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grf.rs/mm/files/learnmat/63-Obezbedjenje%20kvaliteta.pd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reto dijagra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areto diagr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je alat kvaliteta koji služi za određivanje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oriteta prilikom rešavanja problema i veoma je lak za primenu. Upotrebljava se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ada je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zrok nekog problema višestruk pa je potrebno odrediti gde će primenjena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boljšanja imati najveći efekat. Nakon evidentiranja broja pojavljivanja izvesnih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java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uzroka problema) formira se histogram. Sređivanjem histograma u obliku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adajućeg niza može se uočiti na koji aspekt nekog problema treba prvo obratiti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žnju.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to pravilo ukazuje da se rešenjem 30% najvažnijih problema može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tići 70% planiranog poboljšanja. Procenjivanjem efekata mogućih grešaka i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redjivanjem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osleda važnosti prilikom njihovog eliminisanja, mogu se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malno koristiti resursi i sa manjim ulaganjem postići dobri rezultati. Pareto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iza se koristi u svim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lastima sistema kvaliteta gde je moguće identifikovati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ške i troškove koji nastaju usled tih grešaka. Pravilo "70-30", ili "80-20" je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erzalno pravilo koje nije novo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a građevinarstvo. Pravilo se može primeniti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likom procene troškova preko troškovno značajnih pozicij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* Izvor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s://ef.unibl.org/literatura/463876Vjezbe_-_Pareto_(ABC)_analiza.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Izvor: Sa gradjevinskog fakulteta Beograd o upravljanju kvalite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grf.rs/mm/files/learnmat/63-Obezbedjenje%20kvaliteta.pd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stogra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istogr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je alat koji pomaže da se brzo uoči tip raspodele za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zorke koji sadrže veliki broj podataka. Izradi histograma prethodi: izručanavanj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spona populacije, određivanje intervala klasa, izrada tabela učestalosti,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ređivanje granica klasa, sračunavanje središta klasa i određivanje učestalosti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brojavanjem uzorka. Na osnovu ovih podataka crta se histogram. Na osnovu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zgleda histograma donose se zaključci o statističkoj prirodi populaciji.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grami su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bro poznati iz matematičke statistike i imaju primenu u raznim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lastima planiranja u građevinarstvu (dinamički planovi angažovanja radne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nage i finansijskih sredstava … 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jagram rasipanj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catter diagr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je jednostavan alat koji služi za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tvrđivanje stepena korelacije između dve promenljive. Dijagram rasipanja je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uzet iz oblasti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ematičke statistike. Korelacija može biti pozitivna i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na. Koristi se prilikom analize korelacije između: karakteristike entiteta i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ktora koji utiču na nju, dve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arakteristike kvaliteta ili dva faktora koji utiču na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tu karakteristiku. Uz dijagram rasipanja računa se koeficijent korelacije i koristi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resiona analiz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Izvor: Sa gradjevinskog fakulteta Beograd o upravljanju kvalite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grf.rs/mm/files/learnmat/63-Obezbedjenje%20kvaliteta.pd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jagram toka (flow chart) je osnovni alat kojim se analizira proces pre nego što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 primeni neka od složenijih tehnika kvaliteta. Dijagram toka je grafički prikaz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čitavog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ka procesa simbolima, pri čemu je važno da se obuhvate sve aktivnosti i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jihove ulazne i izlazne veličine. Analizom dijagrama toka mogu se uočiti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ravilnosti u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vijanju procesa i mesta potencijalnih problema. Može se uočiti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ogija sa kartom tehnološkog procesa koja predstavlja polaznu tačku u analizi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hnologije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đevinskih radov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Izvor: Sa gradjevinskog fakulteta Beograd o upravljanju kvalite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grf.rs/mm/files/learnmat/63-Obezbedjenje%20kvaliteta.pd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tističko upravljanje proces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tatistical Process Contro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se razvilo na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novu kontrolnih karata i studija sposobnosti procesa. Kada se rezultati procesa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lazi u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kviru kontrolnih granica kontrolnih karti kaže se da je proces "pod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ntrolom". Međutim, i proces koji je "pod kontrolom" može proizvesti loše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izvode. Pravo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boljšanje procesa se ogleda u ponovljivosti procesa i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aglašenosi procesa sa zahtevima kupaca. Ova osobina procesa se naziva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sobnost procesa ili preciznije: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ansa procesa u toku izvesnog vremena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a koji je proces pod kontrolom†. Studije sposobnost su zasnovane na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vantitativnim pokazateljima performansi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a, tzv. indeksima sposobnosti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a. Pomoću studija sposobnosti se objektivno meri stepen u kome proces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adovoljava zahteve kupaca.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boljšanje procesa se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gleda u povećanju sposobnosti procesa, a statističko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ravljanje procesom ima za cilj postizanje maksimalne sposobnosti procesa koji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 "pod kontrolom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zolovanom primenom statističke kontrole procesa se ne mogu eliminisati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i, ali se mogu: pribaviti objektivne informacije o performansama procesa,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ezbediti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cije za donošenje odluka o poboljšanju procesa kroz smanjenje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jacija i postići stabilnost proces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Izvor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cb.rs/blog/fmea-failure-mode-effect-analysis-aleksandar-teofilovic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MEA je razvila NASA sredinom šezdesetih godina prošlog veka za Apollo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MEA metoda se koristi za identifikovanje potencijalnih nedostataka procesa i naknadnog postavljanja tih nedostataka na listu prioriteta na osnov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zbiljnosti (severity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ovatnoće pojavljivanja (occurance),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ovatnoće detektovanja (detection) tih nedostatak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Čitava ideja FMEA je da se istaknu slabosti kroz postavljanje liste prioriteta nedostataka u samom procesu, što se čini računanjem RPN broja. RPN broj je generisan broj zasnovan na FMEA formuli, što ukazuje na otkaze u sistemu koji zahtevaju hitnu pažnj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 širem smislu FMEA metoda obuhvata sledeće korak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učiti pro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sati moguće načine otkaza (Failure Mode) unutar proce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sati moguće efekte svakog otkaza (Potential Failure Effec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rediti ozbiljnost (Severity) svakog efekta otka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rediti verovatnoću pojavljivanja (Occurance) svakog efekta otka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rediti verovatnoću detektovanja (Detection) svakog efekta otka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zračunati “Broj prioriteta rizika” tzv. RPN – Risk Priority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rtirati rizike prema RP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sati aktivnosti za umanjenje kritičnih otka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zračunati nove RPN sa umanjenim ili uklonjenim kritičnim otkazim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MEA je tehnika koja daje odgovor na pitanje: Šta može da otkaže; Kako otkazuje; </a:t>
            </a: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kolik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često </a:t>
            </a: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ć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a otkazuju</a:t>
            </a: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e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Koji su efekti otkaz</a:t>
            </a: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 Koje su posle otkazivanja po pouzdan</a:t>
            </a: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os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/ sigurnosti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Izvor: Sa gradjevinskog fakulteta Beograd o upravljanju kvalite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grf.rs/mm/files/learnmat/63-Obezbedjenje%20kvaliteta.pd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ntrolne liste (cheklsits) su formulari za prikupljanje ili proveru podataka. Jedan od najjednostavnijih alata kvaliteta koji imaju dvostruku namenu: učiniti jednostavnim sakupljanje podataka i automatski urediti podatke u formu pogodnu za dalju upotrebu. Mogu se javljati u različitim oblicima a najčešće su u obliku tabela ili liste pitanj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CD91A-4413-4D59-8AAB-21DC13BEAF9B}" type="slidenum">
              <a:rPr b="0" lang="hr-H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Izvor: </a:t>
            </a:r>
            <a:r>
              <a:rPr b="0" lang="sl-SI" sz="1200" spc="-1" strike="noStrike">
                <a:solidFill>
                  <a:srgbClr val="000000"/>
                </a:solidFill>
                <a:latin typeface="Arial"/>
              </a:rPr>
              <a:t>Stojadinović Zoran: Upravljanje kvalitetom na građevinskim projektima  (magistarska teza), Beograd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A2A85-8823-4259-A825-56CF731D0671}" type="slidenum">
              <a:rPr b="0" lang="hr-H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Izvor: Sa gradjevinskog fakulteta Beograd o upravljanju kvalitet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www.grf.rs/mm/files/learnmat/63-Obezbedjenje%20kvaliteta.pdf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FD  (Quality Function Deployment) se definiše kao: "sistem za prevođenje 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ahteva kupaca u odgovarajuće zahteve preduzeća na svim nivoima koji uključuju 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zvoj,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kovanje, proizvodnju, distribuciju, instalaciju, marketing, prodaju i 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lugu“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Primenom QFD metode se zahtevi kupaca pretvaraju u konkretne 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arakteristike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izvoda, karekteristike delova proizvoda i karakteristika procesa. 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FD je u najširem smislu instrument planiranja. QFD treba razumeti kao stil rada, 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oji se od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dicionalnog pristupa razlikuje u tri najvažnije karakteristike: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vo, zahtevi kupaca se pribavljaju i prikazuju putem niza grafikona koji svojim 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zgledom podsećaju na crtež kuće, po čemu su dobili ime "kuće kvaliteta". Čitava 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kumentacija rada se vodi u okviru kuća kvaliteta. Izgled kuća kvaliteta se 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punjuju tokom rada u skladu sa nivoom informacija o procesu sa kojim se 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spolaže.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va kuća kvaliteta sadrži osnovne zahteve kupaca. Druga kuća 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valiteta sadrži podatke o karakteristikama delova proizvoda. U trećoj kući 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valiteta za karakteristike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lova proizvoda treba definisati merodavne 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arakteristike procesa. U okviru četvrte kuće kvaliteta se razvijaju radna uputstva 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 procedur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rugo, koncept isporučilac-korisnik lanaca se primenjuje u potpunosti. Svaka 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ktivnost u okviru procesa ima svog isporučioca i korisnika sve do poslednje 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ktivnosti čiji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e korisnik kupac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eće, zbog upotrebe multidisciplinarnih timova, organizaciona ograničenja u 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gledu funkcionalnih jedinica i vertikalnih linija komunikacije se prevazilaz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oristi od primene QFD metode su: poboljšan kvalitet, povećano zadovoljstvo 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upaca, povećana produktivnost, smanjenje vremena i troškova za razvoj i 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niranje,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boljšana komunikacija i dokumentacija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Mi proučavamo samo kuću kvaliteta sa aspekta metoda upravljanja kvalite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AF5D2-FADF-482E-A21A-0631B8F1C3C0}" type="slidenum">
              <a:rPr b="0" lang="hr-H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primjeri primjene QFD u gradjevinarstvu se mogu naci na sljedecim adres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construction.berkeley.edu/~tommelein/IGLC-7/PDF/Gargione.pd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fi.uaemex.mx/david.delgado/files/1_QFDInConstructionCME.pd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construction.berkeley.edu/~tommelein/IGLC-7/PDF/Gargione.pd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48968-E243-4C65-B15D-E53F17733C41}" type="slidenum">
              <a:rPr b="0" lang="hr-H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VISE O FAZAMA 2, 3 I 4 U LITERATU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Izvor: OSNOVE PROIZVODNIH I USLUŽNIH TEHNOLOGIJA, Dr NIKOLA RADAKOVIĆ, vanr. prof., Dr ILIJA ĆOSIĆ, red. pr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Univerzitet u Novom Sadu FAKULTET TEHNIČKIH NAUKA Odsek: Industrijsko inženjerstvo i menadž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00" spc="-1" strike="noStrike">
                <a:solidFill>
                  <a:srgbClr val="000000"/>
                </a:solidFill>
                <a:latin typeface="Arial"/>
              </a:rPr>
              <a:t>Izvor: OSNOVE PROIZVODNIH I USLUŽNIH TEHNOLOGIJA, Dr NIKOLA RADAKOVIĆ, vanr. prof., Dr ILIJA ĆOSIĆ, red. pr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00" spc="-1" strike="noStrike">
                <a:solidFill>
                  <a:srgbClr val="000000"/>
                </a:solidFill>
                <a:latin typeface="Arial"/>
              </a:rPr>
              <a:t>Univerzitet u Novom Sadu FAKULTET TEHNIČKIH NAUKA Odsek: Industrijsko inženjerstvo i menadž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kupan posao u Fazi I podeljen je u 12 koraka, tako da se svaki korak svodi na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punjavanje po jednog polja u "kući kvaliteta". Na slici 5.10 je takođe prikazano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oje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lje se popunjava u kom koraku (pojedina polja su označena krugom i brojem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 sredini kruga, od 1 do 12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orak 1: U redove na levoj strani polja 1 se unose zahtevi kupaca (ŠTA kupci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ahtevaju), grupisani po tematskim oblastima, a zatim se u kolonu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“Značaj” unose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rednosti za prioritete navedene od strane kupaca, od 1-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orak 2: U desni deo tabele sa nazivom “Upoređenje sa konkurencijom” unose se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daci u vezi sa situacijom u pogledu konkurencije, sa aspekta kupca;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upcima se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stavlja pitanje, kako vide naš proizvod u poređenju sa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izvodima važnih konkurenata, u pogledu ispunjavanja njihovih važnih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ahteva; skala vrednovanja ima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daciju od 1-5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orak 3: U dodatne dve kolone (A i B) unose se dodatne napomene koje potiču iz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pstvene kuće ili iz spoljnih izvora, kao što su podaci o garanciji,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itužbama,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sebne aktivnosti konkurenata itd.; ove informacije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mogućavaju da se shvate ponekad nejasna vrednovanja dobijena od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upaca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orak 4: Ovde QFD tim opisuje karakteristike proizvoda koje imaju uticaja na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adovoljenje svakog od zahteva kupaca, unetih u polju 1 u koraku 1; ne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ga se za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aljnim rešenjima, već za karakteristikama koje kvalitativno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isuju zahteve kupaca; ovde se “glasovi kupaca” prevode u tehnički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ezik proizvođača (KAKO zadovoljiti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ahteve kupaca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orak 5: Za svaku KAKO karakteristiku unose se “Ciljne tehničke vrednosti”,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dnosno vrednosti pojedinih utvrđenih karakteristika da bi se zadovoljili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ahtevi kupaca, pri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čemu se uzima u obzir stanje kod konkurenata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orak 6: Ovde se utvrđuje stepen korelacije između svakog ŠTA i svakog KAKO,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što se svodi na odgovor na pitanje: “U kojoj meri karakteristika KAKO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država pojedini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ahtev ŠTA kupca”; vrednovanje ima tri stepena: jaka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orelacija - 9, srednja - 3 i slaba - 1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orak 7: Određuje se ukupni značaj pojedinih karakteistika, tako što se vednost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načaja koji kupci pridaju određenom ŠTA množi sa stepenom korelacije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vakog KAKO;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ma rezultata iz svake KAKO vrste unosi se u kolonu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“Značaj vrednosti kolone”, najpre sa apsolutnim vrednostima, a zatim se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zračunavaju relativne vrednosti (u %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orak 8: Na osnovu unetih ciljnih vrednosti (korak 5), ispituje se u kom smeru semora menjati neka, na danas proizvedenom proizvodu već postojeća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arakteristika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orak 9: U matrici krova kuće vrši se ispitivanje međusobne korelacije veličina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AKO, uz uzimanje u obzir ciljnih vrednosti (korak 5) i smera promene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korak 8) pojedinih karakteristika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orak 10: Ovde se vrši stručno upoređenje sopstvenog proizvoda, u pogledu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arakteristika, sa proizvodima vodećih konkurenata; skala vrednovanja je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d 1-5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orak 11: Unose se vrednosti za stepen složenosti (od 1-10), koji u stvaripredstavlja stepen mogućnosti realizacije poboljšanja konstrukcije ka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ljnoj vrednosti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orak 12: Ovde se, eventualno, dodaju neke važne informacije, koje se nisu mogle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uhvatiti kroz prethodna polja u okviru “kuće kvaliteta”.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provođenjem ovih dvanaest koraka, prostori kuće su u potpunosti ispunjeni, svo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gatstvo znanja i ideja radne grupe prikazano je na razumljiv i pregledan način u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kviru "kuće kvaliteta". Zajednički rad na projektu omogućava opsežan transfer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nanja između različitih područja preduzeća, što pri uobičajenom načinu rada ne bi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ilo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guće. Ovaj način rada ne poboljšava samo međusobno razumevanje, već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roz stalno popravljanje radne klime oživljava konstruktivnu saradnju.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 kraju rada u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kviru faze I, tim se bavi izborom važnih i kritičnih karakteristika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izvoda, koji imaju odlučujući značaj za realizovanje poboljšanja ili razvijanje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vog proizvoda.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riterijumi za izbor su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visok značaj zahteva kupaca/korisnika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visoke šanse u poređenju sa konkurencijom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1-3 karakteristike sa izraženo visokim ukupnim značajem (A-kriterijumi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A-kriterijumi imaju visoku korelaciju sa najvažnijim zahtevima kupaca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A-kriterijumi imaju pozitivnu korelaciju u odnosu na druge kriterijume u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rovu kuće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A-kriterijumi imaju takav stepen složenosti realizacije da ih je moguće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alizovati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A-kriterijumi omogućavaju prevazilaženje dosadašnjih problema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potrebne investicije su rentabiln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Izvor: Sa gradjevinskog fakulteta Beograd o upravljanju kvalite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grf.rs/mm/files/learnmat/63-Obezbedjenje%20kvaliteta.pd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ntrolne liste (cheklsits) su formulari za prikupljanje ili proveru podataka. Jedan od najjednostavnijih alata kvaliteta koji imaju dvostruku namenu: učiniti jednostavnim sakupljanje podataka i automatski urediti podatke u formu pogodnu za dalju upotrebu. Mogu se javljati u različitim oblicima a najčešće su u obliku tabela ili liste pitanj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87E16-0FEE-4267-9205-A80180650263}" type="slidenum">
              <a:rPr b="0" lang="hr-H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izv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 JOAQUIN DELGADO-HERNANDEZ,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ATHERINE ELIZABETH BAMPTON and ELAINE ASPINWALL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lity function deployment in con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on Management and Economics (June 2007) 25, 597–609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fi.uaemex.mx/david.delgado/files/1_QFDInConstructionCME.pd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Izv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tfzr.rs/Content/files/0/SIX%20SIGMA%20koncept%20za%20sajt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C1511-98E2-4C8C-A943-73CEE39E0B28}" type="slidenum">
              <a:rPr b="0" lang="hr-H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Izvor: Sa gradjevinskog fakulteta Beograd o upravljanju kvalite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grf.rs/mm/files/learnmat/63-Obezbedjenje%20kvaliteta.pd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Dijagram uzroka i posledica  (cause and effect diagram) je razvio tokijski  profesor Kaoru Išikava pedesetih godina i primenjuje se za utvrđivanje veze  između karakteristike entiteta i faktora koji na nju utiču. Koriste se kada na  rezultat nekog procesa utiče više faktora između kojih se mogu uspostaviti  uzročno-posledične veze. Po svom izgledu podseća na riblju kost pa se  često u  literaturi može naći pod tim imenom. Problem, ili neka karakteristika kvaliteta  koja se želi analizirati, je predstavljen "glavom" a potencijalni uzroci i poduzroci  problema predstavljeni su "kostima". Dijagram slikovito prikazuje međusobne  odnose između potencijalnih uzroka nekog problema, ili između komponenti neke  karakteristike kvaliteta. Sličan alat dijagramu riblje kosti je stablo grešak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yvor:Milenko Heleta, Dragan Cvetkovic, Osnove inženjerstva i savremene metode u  inženjerstvu, Univerzitet Singidunum, Beograd 2009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crnarupa.singidunum.ac.rs/Elektronska%20biblioteka/I%20godina%202009%20-%2010/FIM/In%C5%BEenjerski%20menad%C5%BEment/Osnove%20in%C5%BEenjerstva%20-%20Prof.%20dr%20Milenko%20Heleta/Osnove%20inzenjerstva%20-%20UDZBENIK.pd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Varijante i sinonimi naziv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Dijagram uzrok-posledica, dijagram riblja kost, pošto izgledom podseća na skelet rib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Svrha alat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Sistematično istraživanje svih mogućih uzroka koji su mogle dovesti do određenih posledica (efekata problema ili grešaka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Opis alat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Dijagram uzrok-posledica ili riblja kost jedan je od mnogih alata za menadžment i kvalitet koj je kreirao poznati japanski ekspert Kaoru Ishikawa. Kao i kod svake druge briljantne ideje, osnova riblje kosti je krajnje jednostavna i praktična. Dijagram uzrokposledica se koristi kao timski </a:t>
            </a: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brainstorming 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alat za provokaciju i iznošenje što više ideja mogućih uzroka koje mogu dovesti do posledica koje se istražuju. Nakon nekoliko iteracija analiza, dijagram identifikuje, u grafičkom obliku, primere svih mogućih uzroka pojedinih grešaka. Svi mogući uzroci se slažu na različite nivoe detaljizacije i spajaju se u grane. Nivo detalja raste kako se granjanje nastavlja, tako što je vanjska grana uvek uzrok za unutrašnju granu. To znači da su vanjske grane indikatori korena uzroka problem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Osnovne karakteristike alata s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Jasan vizuelni prikaz mogućih uzroka pojave koja je predmet posmatranja i posledice njihovog dejstv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Obezbeđuje se mogućnost analize međusobnog odnosa pojedinih uticaja - uzroka,njihovog značaja za posmatranu posledicu i mesta u ukupnoj strukturi mogućih uzroka - jedan uzrok se može javiti na više mesta u dijagramu (u više različitih grupa uzorak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Veze uzroka i posledice - međusobne veze uzroka su, u opštem slučaju, kvalitativnog i hipotetičkog karaktera i služe kao podloga za efikasnije rešavanje problema nekom drugom, odgovarajućom metod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Redosled aktivnosti kod primene alat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1. Definisanje problema - jasno definisati posledice problema ili grešk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2. Izbor osnovne strukture - nacrtati "riblju kost" koristeći odgovarajuće familije uzroka, npr. ljudi, oprema, metod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3. Razrada dijagrama - razmotriti podfamilije uzroka (koristeći metodu </a:t>
            </a: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Brainstorming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) i zabeležiti ih na dijagram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4. Postupak širenja - grananja - povećavati nivo detaljnosti za svaki od uzroka na osnovnoj struktur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5. Analiza dijagrama - analiza svih uzroka, utvrđivanje nivoa njihovog uticaja i predlaganje korektivnih mera i redosleda primene za njihovo otklanjanj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C4F91-0189-48B2-A1BA-FB0089340A45}" type="slidenum">
              <a:rPr b="0" lang="hr-H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jagram UZROCI - POSLEDICA se u literaturi naziva i ISHIKAWA dijagram (po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utoru dijagrama) ili dijagram RIBLJA KOST (po asocijaciji na izgled dijagrama).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jagram predstavlja metodu za detaljnu analizu odnosa između određenog stanja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smatranog sistema (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osled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 i uticajnih veličina koje uzrokuju pojavu datog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nja (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uzrok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. Metoda je detaljno opisana u knjizi "Metode i tehnike unapređenja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cesa rada" /Vulanović, V., 2003./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ada je cilj sprovođenja ove metode racionalizacija procesa rada, pod posledicom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eba podrazumevati neki problem ili lošu pojavu koja se uočila. Osnovni cilj metode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e u tom slučaju da se identifikuju svi mogući uzroci pojave problema i da se ti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zroci na pregledan način struktuiraju, kako bi se dobile podloge za sprovođenje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acionalizacije. Metoda se obično sprovodi kroz četiri koraka opisana u nastavku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Korak 1: Definisanje proble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 najvećem broju slučajeva dijagram UZROCI - POSLEDICA se koristi za slučaj da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 za posledicu definiše određeni problem - loš kvalitet dela, sklopa ili proizvoda,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java kvara, dugo vreme trajanja ciklusa proizvodnje, nizak koeficijent obrtanja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apitala ... i niz drugih sličnih problema. U tom slučaju je cilj sprovođenja metode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tvrđivanje uzroka pojave problema.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guća je, takođe, situacija da se za posledicu definiše i određeni (željeni,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jektovani) efekat. U datom slučaju se traži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dentifikacija uslova koji vode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stvarivanju datog efekta kao posledic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Korak 2: Identifikacija uzrok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stupak identifikacije uzroka koji dovode do napred definisanog problema sastoji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 u: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likovanju pregleda svih mogućih uzroka problema koji se analizira.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čigledno je da dati pregled može biti rezultat rada pojedinca, grupe ili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ručnog tima, ali se i u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voj fazi preporučuju rezultati prethodno održane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ainstormng sednice. Pri datom je od značaja da pregled uzroka bude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ompletan, odnosno da se unapred ne isključi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 jedan uzrok koji u kasnijoj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alizi može rezultirati osnovnom uzročno-posledičnom vezom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lasifikaciji uzroka prema karakteru, načinu dejstva i sličnim obeležjima. U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toj fazi se skup svih uzroka razvrstava na osnovne grupe i svaki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jedinačni uzrok locira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 određenu grupu, pri čemu broj grupa nije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graničen, ali postoje preporuke koje se pre svega odnose na preglednost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jagrama i efikasnost metode uopšte. Primer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tvrđivanja broja grupa, u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učaju razmatranja problema lošeg kvaliteta proizvoda kao posledice, je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stem 4M, gde se svi uzroci iz pregleda uzroka lociraju u jednu od grupa: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česnici (Manpower), materijali (Materials), postupci rada (Methods) i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edstva rada (Machines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Korak 3: Razrada dijagr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jagram se crta tako što se posledica (predstavljena pravougaonikom) postavlja u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nom delu crteža, a sa leve strane se postavljaju linije dejstva uzroka u obliku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"riblje kosti", tj. postavljanjem osnovne linije i bočnih linija, kako je prikazano na slici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.16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Korak 4: Analiz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ada se unošenjem u dijagram iscrpe svi identifikovani uzroci i proveri logičnost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vake od grana, pristupa se analizi mogućih uzroka pojave problema.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ično se vrši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dentifikacija najverovatnijih uzroka (3 - 5 uzroka) i zatim njihova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aljnija analiza. Dijagram UZROCI - POSLEDICA posmatran zasebno nije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voljan za rešavanje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blema - on samo upućuje na njegove osnovne uzroke i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zročno - posledične veze.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ti postupak, pored usmeravanja na osnovne uzroke problema, omogućava, u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dređenim slučajevima, iznalaženje linije kritičnih uzroka, što je svakako jedan od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načajnih rezultata predmetne metode,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z datih razloga je potrebno prikupljanje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dataka radi provere najznačajnijih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ajverovatnijih) uzroka i rešavanje problema nekom drugom, odgovarajućom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odom (Pareto ili ABC dijagram i sl.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IZV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tific Research and Essays Vol. 6(25), pp. 5442-5456, 30 October, 201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ailable online at http://www.academicjournals.org/S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SN 1992-2248 ©2011 Academic Journ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ull Length Research Pap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TM4 model using Ishikawa diagram for quality management in design-and-build projec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amzah Abdul-Rahman1, Chen Wang2,3* and Calvin Jackson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academicjournals.org/sre/pdf/pdf2011/30Oct/Abdul-Rahman%20et%20al.pd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800" spc="-1" strike="noStrike">
                <a:solidFill>
                  <a:srgbClr val="000000"/>
                </a:solidFill>
                <a:latin typeface="Arial"/>
              </a:rPr>
              <a:t>Izvor:Milenko Heleta, Dragan Cvetkovic, Osnove inženjerstva i savremene metode u  inženjerstvu, Univerzitet Singidunum, Beograd 2009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ttp://crnarupa.singidunum.ac.rs/Elektronska%20biblioteka/I%20godina%202009%20-%2010/FIM/In%C5%BEenjerski%20menad%C5%BEment/Osnove%20in%C5%BEenjerstva%20-%20Prof.%20dr%20Milenko%20Heleta/Osnove%20inzenjerstva%20-%20UDZBENIK.pdf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Svaka kontrolna karta je grafički predstavljena kao dijagram. Na horizontalnoj osi nanesen je redosled merenja parametara procesa po vremenu, a na vertikalnoj osi daje se skala jedinice mere čije variranje se proučava. Postoji više vrsta kontrolnih karata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800" spc="-1" strike="noStrike">
                <a:solidFill>
                  <a:srgbClr val="000000"/>
                </a:solidFill>
                <a:latin typeface="Arial"/>
              </a:rPr>
              <a:t>Svaku kontrolnu kartu karakteriše centralna tendencija i kontrolne granice. Kada se variranje procesa odvija u okviru kontrolnih granica - što se potvrđuje položajem tačke unutar tih granica za svaki pojedinčni uzorak koji se proverava - onda se za proces kaže da je stabilan ili da je pod kontrolom. U suprotnom, proces nije stabilan, pa i kad vrednost za samo jednu među desetinama uzoraka pada izvan kontrolnih granica. Primer grafičkog dijagrama jedne kontrolne karte, koji pokazuje broj proizvedenih proizvoda tokom svakog dana u smeni, data je na slici 10.4.5-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*Izvor: https://ef.unibl.org/literatura/973845Vjezbe_-_Kontrolne_karte_-_1_dio.p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ke osnovne mogućnosti ovog alata su sljedeće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ravljanje kvalitetom procesa rada </a:t>
            </a:r>
            <a:r>
              <a:rPr b="0" lang="sr-Latn-C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bazi prostorne i vremenske slike stanja, promjena i tendencija kvaliteta sadržanih na kontrolnoj karti, </a:t>
            </a:r>
            <a:r>
              <a:rPr b="1" lang="sr-Latn-C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cilju sprečavanja proizvodnje neusklađenih proizvoda</a:t>
            </a:r>
            <a:r>
              <a:rPr b="0" lang="sr-Latn-C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trola kvaliteta proizvoda u pojedinim fazama proizvodnje</a:t>
            </a:r>
            <a:r>
              <a:rPr b="0" lang="sr-Latn-C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fazi pripreme i fazi završetka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biliziacija procesa </a:t>
            </a:r>
            <a:r>
              <a:rPr b="0" lang="sr-Latn-C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osnovu otkrivanja nedopuštenih faktora i njihovog isključivanja iz toka procesa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iza tačnosti i stabilnosti procesa rada</a:t>
            </a:r>
            <a:r>
              <a:rPr b="0" lang="sr-Latn-C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avršavanje tehnoloških procesa </a:t>
            </a:r>
            <a:r>
              <a:rPr b="0" lang="sr-Latn-C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a sa stanovišta kvaliteta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iza</a:t>
            </a:r>
            <a:r>
              <a:rPr b="0" lang="sr-Latn-C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stema </a:t>
            </a:r>
            <a:r>
              <a:rPr b="1" lang="sr-Latn-C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ešaka</a:t>
            </a:r>
            <a:r>
              <a:rPr b="0" lang="sr-Latn-C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brade </a:t>
            </a:r>
            <a:r>
              <a:rPr b="1" lang="sr-Latn-C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toku odvijanja tehnoloških procesa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mjena u svim fazama nekog procesa (ulazna, procesna, izlazna kontrola i kontrola u eksploataciji) i svim tipovima proizvodnje (maloserijskoj, srednjeserijskoj i masovnoj proizvodnji, izuzev pojedinačne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Izvor: Sa gradjevinskog fakulteta Beograd o upravljanju kvalite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www.grf.rs/mm/files/learnmat/63-Obezbedjenje%20kvaliteta.pdf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Kontrolne karte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ntrol chart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 su osnovni alat koji se koristi za statističko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ravljanje procesom. Kontrolne karte su grafici u kojima se prikazuje ponašanje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cesa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 vremenu i služe za ocenjivanje da li se proces odvija na zadovoljavajući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čin. Grafici su ograničeni sa statistički izračunatim kontrolnim granicama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zmeđu kojih se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dvija proces. Granice služe da najave pojavu problema, odnosno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stematskih smetnji. Najviše korišćene kontrolne karte su bazirane na 3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sigma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ontrolnim granicama. Tipovi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ontrolnih karata određeni su tipom karakteristika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oje se ispituju, odnosno prirodom podataka koje predstavljaju. Osnovna podela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e na kontrolne karte za kontinulnepromenljive i kontrolne karte za atributivne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arakteristike. Glavne oblasti primene kontrolnih karata su: kontrolisanje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inspekcija) procesa, podešavanje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cesa, analiza procesa i upravljanje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cesom*. O primeni kontrolnih karti postoji obimna literatura a razvijeni su i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ftverski paketi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D905-ED6B-47BF-97B2-FC462A81D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0C28-1632-460B-AB23-7C9BADFA7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16A7-C631-4385-ADEB-CD134F383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BDA0-2A59-446B-A218-33403EB85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0915B-8551-4046-9AD3-D6167910F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FF294-CFA9-415C-9184-FE6CF927F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89BBB-C25C-446D-9F68-D884333CE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00071-690D-4A82-923B-E848CFE65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1E49B-CF86-4F91-83FC-C51B0B8ED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98F9B-A335-4CFA-B228-BBB21A96F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21209-6F4A-4182-9496-B2A2D71A9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629A-BD7D-4FFE-8A74-35CEF350A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E303C-0BA4-4D79-9366-DB5978E5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1B14B-5529-497C-B246-6A7E721AC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76564-6ECA-4DCC-846F-0D10D3AFF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AEF99-FD11-4D58-965A-822EC7936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FAC81-5885-4BEA-839F-AE382857A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8086-B60D-46BC-B580-32138485C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E0F5-13A9-48B9-9F0D-D8C34396C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5FB7-79F2-4C5F-970D-8F3F40766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715A-ABD4-4AC8-B49E-16CB3527D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D61E-3E08-4DA1-B511-692BA03F2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7494-B9B8-405F-8D15-58C34D1CC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56F2-E77F-4FCD-895F-85A5DA52E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218960" y="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21/02/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959F6-5BFF-4530-9B01-EA5376E3C6B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BD943-6DF5-48E8-B427-A8EF108B5A53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image" Target="../media/image18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8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29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30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5.wmf"/><Relationship Id="rId1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300" spc="-1" strike="noStrike">
                <a:solidFill>
                  <a:srgbClr val="00ffff"/>
                </a:solidFill>
                <a:latin typeface="Times New Roman"/>
              </a:rPr>
              <a:t>Alati i metode za upravljanje kvalitetom</a:t>
            </a:r>
            <a:endParaRPr b="0" lang="en-US" sz="3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2471400" y="4394160"/>
            <a:ext cx="5684760" cy="98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9898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72400" cy="80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ffff"/>
                </a:solidFill>
                <a:latin typeface="Times New Roman"/>
              </a:rPr>
              <a:t>Kontrolne karte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72" name="Content Placeholder 2" descr=""/>
          <p:cNvPicPr/>
          <p:nvPr/>
        </p:nvPicPr>
        <p:blipFill>
          <a:blip r:embed="rId1"/>
          <a:stretch/>
        </p:blipFill>
        <p:spPr>
          <a:xfrm>
            <a:off x="923760" y="1628640"/>
            <a:ext cx="7772400" cy="346716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3"/>
          <p:cNvSpPr/>
          <p:nvPr/>
        </p:nvSpPr>
        <p:spPr>
          <a:xfrm>
            <a:off x="1187280" y="5516640"/>
            <a:ext cx="684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400" spc="-1" strike="noStrike">
                <a:solidFill>
                  <a:srgbClr val="ffffff"/>
                </a:solidFill>
                <a:latin typeface="Arial"/>
              </a:rPr>
              <a:t>Izvor: https://ef.unibl.org/literatura/973845Vjezbe_-_Kontrolne_karte_-_1_dio.pp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4" name="Straight Arrow Connector 5"/>
          <p:cNvCxnSpPr/>
          <p:nvPr/>
        </p:nvCxnSpPr>
        <p:spPr>
          <a:xfrm flipH="1">
            <a:off x="6227280" y="1413000"/>
            <a:ext cx="937440" cy="1729440"/>
          </a:xfrm>
          <a:prstGeom prst="straightConnector1">
            <a:avLst/>
          </a:prstGeom>
          <a:ln w="54000">
            <a:solidFill>
              <a:srgbClr val="00cccc"/>
            </a:solidFill>
            <a:miter/>
            <a:tailEnd len="med" type="arrow" w="med"/>
          </a:ln>
        </p:spPr>
      </p:cxnSp>
      <p:sp>
        <p:nvSpPr>
          <p:cNvPr id="175" name="TextBox 9"/>
          <p:cNvSpPr/>
          <p:nvPr/>
        </p:nvSpPr>
        <p:spPr>
          <a:xfrm>
            <a:off x="5668920" y="1125360"/>
            <a:ext cx="304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7ffff"/>
                </a:solidFill>
                <a:latin typeface="Times New Roman"/>
              </a:rPr>
              <a:t>Zona neizbjezne disperzij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72400" cy="80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ffff"/>
                </a:solidFill>
                <a:latin typeface="Times New Roman"/>
              </a:rPr>
              <a:t>Kontrolne karte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00000" y="1208160"/>
            <a:ext cx="8042400" cy="52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lnSpc>
                <a:spcPct val="8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Opis tehnike: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803160" indent="-26028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na osnovu istorijskih podataka i statistike su određene kontrolne granice (granice rasipanja, najčešće na osnovu +-3</a:t>
            </a:r>
            <a:r>
              <a:rPr b="0" lang="el-GR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σ</a:t>
            </a: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) i centralna tendencija: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2" marL="1260360" indent="-185760">
              <a:lnSpc>
                <a:spcPct val="80000"/>
              </a:lnSpc>
              <a:spcBef>
                <a:spcPts val="374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donja kontrolna granica DKG (lower control limit LCL)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2" marL="1260360" indent="-185760">
              <a:lnSpc>
                <a:spcPct val="80000"/>
              </a:lnSpc>
              <a:spcBef>
                <a:spcPts val="374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gornja kontrolna granica GKG (upper control limit UCL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2" marL="1260360" indent="-185760">
              <a:lnSpc>
                <a:spcPct val="80000"/>
              </a:lnSpc>
              <a:spcBef>
                <a:spcPts val="374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centralna tendencija (aritmetička sredina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2" marL="1260360" indent="-185760">
              <a:lnSpc>
                <a:spcPct val="80000"/>
              </a:lnSpc>
              <a:spcBef>
                <a:spcPts val="374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500" spc="-1" strike="noStrike" u="sng">
                <a:solidFill>
                  <a:srgbClr val="ffffff"/>
                </a:solidFill>
                <a:uFillTx/>
                <a:latin typeface="Times New Roman"/>
              </a:rPr>
              <a:t>Kontrolne granice su statističke granice i nisu povezane s</a:t>
            </a:r>
            <a:r>
              <a:rPr b="0" i="1" lang="en-US" sz="15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i="1" lang="hr-HR" sz="1500" spc="-1" strike="noStrike" u="sng">
                <a:solidFill>
                  <a:srgbClr val="ffffff"/>
                </a:solidFill>
                <a:uFillTx/>
                <a:latin typeface="Times New Roman"/>
              </a:rPr>
              <a:t>granicama specifikacije (zahtjeva).</a:t>
            </a:r>
            <a:r>
              <a:rPr b="0" i="1" lang="en-US" sz="1500" spc="-1" strike="noStrike" u="sng">
                <a:solidFill>
                  <a:srgbClr val="ffffff"/>
                </a:solidFill>
                <a:uFillTx/>
                <a:latin typeface="Times New Roman"/>
              </a:rPr>
              <a:t> Unutar kontrolnih granica se ocekuju (uobicajene) slucajne varijacije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803160" indent="-26028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uzima se više manjih uzoraka tokom vremen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803160" indent="-26028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na osnovu uzorka sračunava se jedan ili više statističkih parametar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803160" indent="-26028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na osnovu praćenja procesa crta se dijagram: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2" marL="1260360" indent="-185760">
              <a:lnSpc>
                <a:spcPct val="80000"/>
              </a:lnSpc>
              <a:spcBef>
                <a:spcPts val="374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na horizontalnoj osi nanesen je redosljed mjerenja parametara procesa po vremenu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2" marL="1260360" indent="-185760">
              <a:lnSpc>
                <a:spcPct val="80000"/>
              </a:lnSpc>
              <a:spcBef>
                <a:spcPts val="374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na vertikalnoj osi daje se skala jedinice mjere parametara čije variranje se proučava.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803160" indent="-26028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kada se variranje procesa odvija u okviru kontrolnih granica - što se potvrđuje položajem tačke unutar tih granica za svaki pojedinčni uzorak koji se provjerava - onda se za proces kaže da je stabilan ili da je pod kontrolom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271440" indent="-271440">
              <a:lnSpc>
                <a:spcPct val="8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Podjela prema sadržaju: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803160" indent="-26028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Kontrolne karte za mjerne (numeričke) karakteristike (svojstva) kvaliteta- matematićka podloga ovih karata je normalna (Gausova) raspodjel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803160" indent="-26028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Kontrolne karte za atributna svojstva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matematićka podloga ovih karata je 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binomna I Puasonova raspodjel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7164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ffff"/>
                </a:solidFill>
                <a:latin typeface="Times New Roman"/>
              </a:rPr>
              <a:t>Kontrolne karte za numeričke karakteristike kvaliteta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94920" y="1946160"/>
            <a:ext cx="792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̅</a:t>
            </a:r>
            <a:r>
              <a:rPr b="0" lang="sr-Latn-ME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-R kontrolne karte: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prate aritmetičku sredinu </a:t>
            </a:r>
            <a:r>
              <a:rPr b="0" lang="sr-Latn-ME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̅X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kao mjeru centriranosti proces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ate 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 i  R raspon u uzorcima, kao mjeru rasipanja proces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uzorak veličine n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&lt;25, uobicajeno 2 do 10 jedinica u uzorku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broj serija uzoraka tokom vremena k≥20  (broj posmatranja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primjena najčešće za serijsku i velikoserijsku komadnu proizvodnju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̅</a:t>
            </a:r>
            <a:r>
              <a:rPr b="0" lang="sr-Latn-ME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-s 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kontrolne </a:t>
            </a: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karte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prate aritmetičku sredinu </a:t>
            </a:r>
            <a:r>
              <a:rPr b="0" lang="sr-Latn-ME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̅X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ao mjeru centriranosti procesa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ate i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l-GR" sz="1500" spc="-1" strike="noStrike">
                <a:solidFill>
                  <a:srgbClr val="ffffff"/>
                </a:solidFill>
                <a:latin typeface="Times New Roman"/>
              </a:rPr>
              <a:t>σ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 standardno odstupanje kao mjeru rasipanja proces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uzorak 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mo\e biti promjenljive velicine n≠const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broj serija uzoraka tokom vremena k≥15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U procesima koji su zaokruženog tipa i koji se odvijaju u ciklu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ima 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kada se proces ne može pratiti dok je ciklus u toku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 kontrolne karte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 odre</a:t>
            </a:r>
            <a:r>
              <a:rPr b="0" lang="sr-Latn-ME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đ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im vremenskim intervalima mjeri se karakteristika proi</a:t>
            </a:r>
            <a:r>
              <a:rPr b="0" lang="sr-Latn-ME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da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 osnovu aritmetičke sredine svih mjerenja crta se centralna linij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ja i gornja granica se sracunavaju kao +-3</a:t>
            </a:r>
            <a:r>
              <a:rPr b="0" lang="el-GR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σ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lježe se sve izmjerene vrijednosti po redosledu nastajanj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6880320" y="2832120"/>
            <a:ext cx="2244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900" spc="-1" strike="noStrike">
                <a:solidFill>
                  <a:srgbClr val="ffffff"/>
                </a:solidFill>
                <a:latin typeface="Arial"/>
              </a:rPr>
              <a:t>Izvor: http://cent.mas.bg.ac.rs/nastava/statut99/ukp/predavanja/predavanja07.pdf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Content Placeholder 5" descr=""/>
          <p:cNvPicPr/>
          <p:nvPr/>
        </p:nvPicPr>
        <p:blipFill>
          <a:blip r:embed="rId1"/>
          <a:stretch/>
        </p:blipFill>
        <p:spPr>
          <a:xfrm>
            <a:off x="6019920" y="990720"/>
            <a:ext cx="31050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87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̅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X-R kontrolne karte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1280" y="1014120"/>
            <a:ext cx="8259840" cy="49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Potrebni podaci *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Kontrolne granice za ovu kartu moguće je postaviti na tri načina </a:t>
            </a:r>
            <a:r>
              <a:rPr b="0" lang="en-US" sz="1500" spc="-1" strike="noStrike">
                <a:solidFill>
                  <a:srgbClr val="ff0000"/>
                </a:solidFill>
                <a:latin typeface="Times New Roman"/>
              </a:rPr>
              <a:t>(Nije potrebno pamtiti formule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):**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Praćenjem nepoznatog procesa u cilju ustanovljavanja njegovih prirodnih mogućnosti u pogledu centriranosti i rasipanja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Na osnovu poznatih prošlih podataka o procesu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Na osnovu unaprijed zadanih tolerancij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Picture 2" descr=""/>
          <p:cNvPicPr/>
          <p:nvPr/>
        </p:nvPicPr>
        <p:blipFill>
          <a:blip r:embed="rId1"/>
          <a:srcRect l="0" t="0" r="6242" b="1357"/>
          <a:stretch/>
        </p:blipFill>
        <p:spPr>
          <a:xfrm>
            <a:off x="476280" y="3981600"/>
            <a:ext cx="4124160" cy="7761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" descr=""/>
          <p:cNvPicPr/>
          <p:nvPr/>
        </p:nvPicPr>
        <p:blipFill>
          <a:blip r:embed="rId2"/>
          <a:srcRect l="0" t="0" r="2204" b="18704"/>
          <a:stretch/>
        </p:blipFill>
        <p:spPr>
          <a:xfrm>
            <a:off x="604800" y="5008680"/>
            <a:ext cx="3995640" cy="7444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4" descr=""/>
          <p:cNvPicPr/>
          <p:nvPr/>
        </p:nvPicPr>
        <p:blipFill>
          <a:blip r:embed="rId3"/>
          <a:stretch/>
        </p:blipFill>
        <p:spPr>
          <a:xfrm>
            <a:off x="639720" y="6119640"/>
            <a:ext cx="3994200" cy="665280"/>
          </a:xfrm>
          <a:prstGeom prst="rect">
            <a:avLst/>
          </a:prstGeom>
          <a:ln w="0">
            <a:noFill/>
          </a:ln>
        </p:spPr>
      </p:pic>
      <p:grpSp>
        <p:nvGrpSpPr>
          <p:cNvPr id="187" name="Group 9"/>
          <p:cNvGrpSpPr/>
          <p:nvPr/>
        </p:nvGrpSpPr>
        <p:grpSpPr>
          <a:xfrm>
            <a:off x="1590840" y="1401840"/>
            <a:ext cx="5717880" cy="1952640"/>
            <a:chOff x="1590840" y="1401840"/>
            <a:chExt cx="5717880" cy="1952640"/>
          </a:xfrm>
        </p:grpSpPr>
        <p:pic>
          <p:nvPicPr>
            <p:cNvPr id="188" name="Picture 6" descr=""/>
            <p:cNvPicPr/>
            <p:nvPr/>
          </p:nvPicPr>
          <p:blipFill>
            <a:blip r:embed="rId4"/>
            <a:srcRect l="0" t="0" r="-11762" b="0"/>
            <a:stretch/>
          </p:blipFill>
          <p:spPr>
            <a:xfrm>
              <a:off x="1590840" y="1401840"/>
              <a:ext cx="4587840" cy="195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7" descr=""/>
            <p:cNvPicPr/>
            <p:nvPr/>
          </p:nvPicPr>
          <p:blipFill>
            <a:blip r:embed="rId5"/>
            <a:stretch/>
          </p:blipFill>
          <p:spPr>
            <a:xfrm>
              <a:off x="6300720" y="1906200"/>
              <a:ext cx="998640" cy="50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Picture 8" descr=""/>
            <p:cNvPicPr/>
            <p:nvPr/>
          </p:nvPicPr>
          <p:blipFill>
            <a:blip r:embed="rId6"/>
            <a:stretch/>
          </p:blipFill>
          <p:spPr>
            <a:xfrm>
              <a:off x="6300720" y="2457720"/>
              <a:ext cx="1008000" cy="50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1" name="TextBox 10"/>
          <p:cNvSpPr/>
          <p:nvPr/>
        </p:nvSpPr>
        <p:spPr>
          <a:xfrm>
            <a:off x="6443640" y="4068720"/>
            <a:ext cx="2427480" cy="26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Picture 11" descr=""/>
          <p:cNvPicPr/>
          <p:nvPr/>
        </p:nvPicPr>
        <p:blipFill>
          <a:blip r:embed="rId7"/>
          <a:stretch/>
        </p:blipFill>
        <p:spPr>
          <a:xfrm>
            <a:off x="5114880" y="4103640"/>
            <a:ext cx="389412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87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Primjer ̅X-R kontrolne karte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94" name="Content Placeholder 1" descr=""/>
          <p:cNvPicPr/>
          <p:nvPr/>
        </p:nvPicPr>
        <p:blipFill>
          <a:blip r:embed="rId1"/>
          <a:stretch/>
        </p:blipFill>
        <p:spPr>
          <a:xfrm>
            <a:off x="611280" y="1143000"/>
            <a:ext cx="4911480" cy="2925720"/>
          </a:xfrm>
          <a:prstGeom prst="rect">
            <a:avLst/>
          </a:prstGeom>
          <a:ln w="0">
            <a:noFill/>
          </a:ln>
        </p:spPr>
      </p:pic>
      <p:sp>
        <p:nvSpPr>
          <p:cNvPr id="195" name="TextBox 10"/>
          <p:cNvSpPr/>
          <p:nvPr/>
        </p:nvSpPr>
        <p:spPr>
          <a:xfrm>
            <a:off x="6443640" y="4068720"/>
            <a:ext cx="2427480" cy="26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Picture 5" descr=""/>
          <p:cNvPicPr/>
          <p:nvPr/>
        </p:nvPicPr>
        <p:blipFill>
          <a:blip r:embed="rId2"/>
          <a:stretch/>
        </p:blipFill>
        <p:spPr>
          <a:xfrm>
            <a:off x="3348000" y="4316400"/>
            <a:ext cx="4863960" cy="21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87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̅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X-</a:t>
            </a:r>
            <a:r>
              <a:rPr b="0" lang="el-GR" sz="2800" spc="-1" strike="noStrike">
                <a:solidFill>
                  <a:srgbClr val="00ffff"/>
                </a:solidFill>
                <a:latin typeface="Times New Roman"/>
              </a:rPr>
              <a:t>σ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kontrolne karte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11280" y="1014120"/>
            <a:ext cx="8259840" cy="49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Potrebni podaci *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Kontrolne granice za ovu kartu moguće je postaviti na tri načina </a:t>
            </a:r>
            <a:r>
              <a:rPr b="0" lang="en-US" sz="1500" spc="-1" strike="noStrike">
                <a:solidFill>
                  <a:srgbClr val="ff0000"/>
                </a:solidFill>
                <a:latin typeface="Times New Roman"/>
              </a:rPr>
              <a:t>(Nije potrebno pamtiti formule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):**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Praćenjem nepoznatog procesa u cilju ustanovljavanja njegovih prirodnih mogućnosti u pogledu centriranosti i rasipanja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Na osnovu poznatih prošlih podataka o procesu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Na osnovu unaprijed zadanih tolerancij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9" name="Group 9"/>
          <p:cNvGrpSpPr/>
          <p:nvPr/>
        </p:nvGrpSpPr>
        <p:grpSpPr>
          <a:xfrm>
            <a:off x="1590840" y="1401840"/>
            <a:ext cx="5717880" cy="1952640"/>
            <a:chOff x="1590840" y="1401840"/>
            <a:chExt cx="5717880" cy="1952640"/>
          </a:xfrm>
        </p:grpSpPr>
        <p:pic>
          <p:nvPicPr>
            <p:cNvPr id="200" name="Picture 6" descr=""/>
            <p:cNvPicPr/>
            <p:nvPr/>
          </p:nvPicPr>
          <p:blipFill>
            <a:blip r:embed="rId1"/>
            <a:srcRect l="0" t="0" r="-11762" b="0"/>
            <a:stretch/>
          </p:blipFill>
          <p:spPr>
            <a:xfrm>
              <a:off x="1590840" y="1401840"/>
              <a:ext cx="4587840" cy="195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Picture 7" descr=""/>
            <p:cNvPicPr/>
            <p:nvPr/>
          </p:nvPicPr>
          <p:blipFill>
            <a:blip r:embed="rId2"/>
            <a:stretch/>
          </p:blipFill>
          <p:spPr>
            <a:xfrm>
              <a:off x="6300720" y="1906200"/>
              <a:ext cx="998640" cy="50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Picture 8" descr=""/>
            <p:cNvPicPr/>
            <p:nvPr/>
          </p:nvPicPr>
          <p:blipFill>
            <a:blip r:embed="rId3"/>
            <a:stretch/>
          </p:blipFill>
          <p:spPr>
            <a:xfrm>
              <a:off x="6300720" y="2457720"/>
              <a:ext cx="1008000" cy="50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3" name="TextBox 10"/>
          <p:cNvSpPr/>
          <p:nvPr/>
        </p:nvSpPr>
        <p:spPr>
          <a:xfrm>
            <a:off x="6443640" y="4068720"/>
            <a:ext cx="2427480" cy="26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Picture 1" descr=""/>
          <p:cNvPicPr/>
          <p:nvPr/>
        </p:nvPicPr>
        <p:blipFill>
          <a:blip r:embed="rId4"/>
          <a:stretch/>
        </p:blipFill>
        <p:spPr>
          <a:xfrm>
            <a:off x="5421240" y="3971880"/>
            <a:ext cx="3687840" cy="28209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"/>
          <p:cNvPicPr/>
          <p:nvPr/>
        </p:nvPicPr>
        <p:blipFill>
          <a:blip r:embed="rId5"/>
          <a:stretch/>
        </p:blipFill>
        <p:spPr>
          <a:xfrm>
            <a:off x="1509840" y="4086360"/>
            <a:ext cx="3662280" cy="6141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2" descr=""/>
          <p:cNvPicPr/>
          <p:nvPr/>
        </p:nvPicPr>
        <p:blipFill>
          <a:blip r:embed="rId6"/>
          <a:stretch/>
        </p:blipFill>
        <p:spPr>
          <a:xfrm>
            <a:off x="1379520" y="5111640"/>
            <a:ext cx="3917880" cy="6415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3" descr=""/>
          <p:cNvPicPr/>
          <p:nvPr/>
        </p:nvPicPr>
        <p:blipFill>
          <a:blip r:embed="rId7"/>
          <a:stretch/>
        </p:blipFill>
        <p:spPr>
          <a:xfrm>
            <a:off x="1297080" y="6108840"/>
            <a:ext cx="3989160" cy="58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87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Primjer ̅X-</a:t>
            </a:r>
            <a:r>
              <a:rPr b="0" lang="el-GR" sz="2800" spc="-1" strike="noStrike">
                <a:solidFill>
                  <a:srgbClr val="00ffff"/>
                </a:solidFill>
                <a:latin typeface="Times New Roman"/>
              </a:rPr>
              <a:t>σ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kontrolne karte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9" name="TextBox 10"/>
          <p:cNvSpPr/>
          <p:nvPr/>
        </p:nvSpPr>
        <p:spPr>
          <a:xfrm>
            <a:off x="6443640" y="4068720"/>
            <a:ext cx="2427480" cy="26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0" name="Content Placeholder 3" descr=""/>
          <p:cNvPicPr/>
          <p:nvPr/>
        </p:nvPicPr>
        <p:blipFill>
          <a:blip r:embed="rId1"/>
          <a:stretch/>
        </p:blipFill>
        <p:spPr>
          <a:xfrm>
            <a:off x="1476360" y="1557360"/>
            <a:ext cx="6624720" cy="44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ffff"/>
                </a:solidFill>
                <a:latin typeface="Times New Roman"/>
              </a:rPr>
              <a:t>Kontrolne karte za praćenje atributivnih karakteristika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82090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ffffff"/>
                </a:solidFill>
                <a:latin typeface="Times New Roman"/>
              </a:rPr>
              <a:t>bazirane su na </a:t>
            </a: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brojanju: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neispravnih d</a:t>
            </a:r>
            <a:r>
              <a:rPr b="0" lang="sr-Latn-CS" sz="17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elova u uzorku (ukupan broj defektnih d</a:t>
            </a:r>
            <a:r>
              <a:rPr b="0" lang="sr-Latn-CS" sz="17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elova </a:t>
            </a:r>
            <a:r>
              <a:rPr b="0" i="1" lang="en-US" sz="1700" spc="-1" strike="noStrike">
                <a:solidFill>
                  <a:srgbClr val="ffffff"/>
                </a:solidFill>
                <a:latin typeface="Times New Roman"/>
              </a:rPr>
              <a:t>np </a:t>
            </a: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- kontrolna karta ili</a:t>
            </a:r>
            <a:r>
              <a:rPr b="0" lang="sr-Latn-CS" sz="17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procenat defektnih d</a:t>
            </a:r>
            <a:r>
              <a:rPr b="0" lang="sr-Latn-CS" sz="17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elova </a:t>
            </a:r>
            <a:r>
              <a:rPr b="0" i="1" lang="en-US" sz="17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- kontrolna karta) i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nedostataka - defekata u uzorku (ukupan broj defekata </a:t>
            </a:r>
            <a:r>
              <a:rPr b="0" i="1" lang="en-US" sz="1700" spc="-1" strike="noStrike">
                <a:solidFill>
                  <a:srgbClr val="ffffff"/>
                </a:solidFill>
                <a:latin typeface="Times New Roman"/>
              </a:rPr>
              <a:t>u </a:t>
            </a: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- kontrolna karta ili procenat</a:t>
            </a:r>
            <a:r>
              <a:rPr b="0" lang="sr-Latn-CS" sz="17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defekata po prim</a:t>
            </a:r>
            <a:r>
              <a:rPr b="0" lang="sr-Latn-CS" sz="17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erku </a:t>
            </a:r>
            <a:r>
              <a:rPr b="0" i="1" lang="en-US" sz="1700" spc="-1" strike="noStrike">
                <a:solidFill>
                  <a:srgbClr val="ffffff"/>
                </a:solidFill>
                <a:latin typeface="Times New Roman"/>
              </a:rPr>
              <a:t>c </a:t>
            </a: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- kontrolna karta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Picture 12" descr=""/>
          <p:cNvPicPr/>
          <p:nvPr/>
        </p:nvPicPr>
        <p:blipFill>
          <a:blip r:embed="rId1"/>
          <a:srcRect l="0" t="0" r="0" b="5005"/>
          <a:stretch/>
        </p:blipFill>
        <p:spPr>
          <a:xfrm>
            <a:off x="539640" y="3284640"/>
            <a:ext cx="7945560" cy="273672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 txBox="1"/>
          <p:nvPr/>
        </p:nvSpPr>
        <p:spPr>
          <a:xfrm>
            <a:off x="5132160" y="194616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3600" spc="-1" strike="noStrike">
                <a:solidFill>
                  <a:srgbClr val="00ffff"/>
                </a:solidFill>
                <a:latin typeface="Times New Roman"/>
              </a:rPr>
              <a:t>Analiza kontrolnih karat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16" name="Content Placeholder 3" descr=""/>
          <p:cNvPicPr/>
          <p:nvPr/>
        </p:nvPicPr>
        <p:blipFill>
          <a:blip r:embed="rId1"/>
          <a:stretch/>
        </p:blipFill>
        <p:spPr>
          <a:xfrm>
            <a:off x="2627280" y="2205000"/>
            <a:ext cx="4068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ffff"/>
                </a:solidFill>
                <a:latin typeface="Times New Roman"/>
              </a:rPr>
              <a:t>Pareto dijagram (ABC analiza)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500" spc="-1" strike="noStrike">
                <a:solidFill>
                  <a:srgbClr val="ffffff"/>
                </a:solidFill>
                <a:latin typeface="Times New Roman"/>
              </a:rPr>
              <a:t>Pareto dijagram- </a:t>
            </a: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 grafička metoda za rangiranje činilaca- Ime proističe iz jasnog isticanja zona A, B i C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Pareto dijagram sa vertikalnim stupcima koji prikazuje kategorije u opadajućem redoslijedu po frekvenciji ili veličini s lijeva na desno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500" spc="-1" strike="noStrike">
                <a:solidFill>
                  <a:srgbClr val="ffffff"/>
                </a:solidFill>
                <a:latin typeface="Times New Roman"/>
              </a:rPr>
              <a:t>Pareto dijagram (ABC dijagram) - </a:t>
            </a: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Najčešće korišćeni statistički alat za analizu problema. On grafički sumira podatke u cilju fokusiranja pažnje na glavne razloge pojave određenog rezultata i utvrđivanje odnosa  zmeđu uzroka i posledice (histogram po opadajućem redosledu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500" spc="-1" strike="noStrike">
                <a:solidFill>
                  <a:srgbClr val="ffffff"/>
                </a:solidFill>
                <a:latin typeface="Times New Roman"/>
              </a:rPr>
              <a:t>Pareto dijagram sa kumulativnom krivom - k</a:t>
            </a: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umulativna distribuciona linija ("cum" linija) je dodatna dimenzija Pareto analize. "Cum" linija pokazuje kumulativnu distribuciju događaja u procentima (ukupan procenat događaja je 100%)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Primjena: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Rangiranje pojava i stepena značajnosti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Utvrđivanje kritičnih faktora prema ponderima kritičnosti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Rangiranje mogućih poboljšanj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Može se koristiti pravilo 70-30 ili 80-20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Postupak izrade: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Odabir činilaca koji će se analizirati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Odabir jedinice mjerenje za analizu (br. pojavljivanja, troškovi i sl.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Poređati kategorije s lijeva na desno po opadajućem redosljedu (najprije nanijeti kategoriju (činilac sa najvećom frekvencijom, pa onda manii itd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Konstruisati liniju kumulativne učestalosti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ffff"/>
                </a:solidFill>
                <a:latin typeface="Times New Roman"/>
              </a:rPr>
              <a:t>Defini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sanje</a:t>
            </a:r>
            <a:r>
              <a:rPr b="0" lang="hr-HR" sz="2800" spc="-1" strike="noStrike">
                <a:solidFill>
                  <a:srgbClr val="00ffff"/>
                </a:solidFill>
                <a:latin typeface="Times New Roman"/>
              </a:rPr>
              <a:t> metoda i  alata za upravljanje kvalitetom 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971280" y="1557360"/>
            <a:ext cx="7970760" cy="45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Alati i metode 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su </a:t>
            </a: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praktične tehnike, vještine, sredstva ili mehanizmi koje je moguće primijeniti za rješavanje specifičnih zada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taka</a:t>
            </a: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 i problema vezanih za 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QMS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Uglavnom se koriste za unapre</a:t>
            </a: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đenje procesa (kreiranje, upravljanje, analiza podataka za rešavanje problema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Specifičnost namjene alata i metoda za poboljšanje kvalitet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za stvaranje ideja (Brainstorming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za analizu procesa (Dijagram toka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za analizu uzroka (Isikava dijagram=dijagram uzrok-posljedica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za planiranje (QFD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za ocjenu (Benchmarking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za prikupljanje i analizu podataka (metode SPC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Metode = šema, redosljed, postupak za obavljanje neke djelatnosti (u ovom slucaju za sistemsko i sistematičnu obradu podataka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često podrazumijevaju primjenu više alat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Preduslovi </a:t>
            </a: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uspješne primjene metoda i alata za upravljanje kvalitetom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74"/>
              </a:spcBef>
              <a:buClr>
                <a:srgbClr val="cc99ff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Potpuna 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opredijeljenost i podr</a:t>
            </a: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š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ka od strane menad</a:t>
            </a: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ž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ment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74"/>
              </a:spcBef>
              <a:buClr>
                <a:srgbClr val="cc99ff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Efikasna i pripremljena edukacij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74"/>
              </a:spcBef>
              <a:buClr>
                <a:srgbClr val="cc99ff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Istinska potreba za korišćenjem nekog alata ili metode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74"/>
              </a:spcBef>
              <a:buClr>
                <a:srgbClr val="cc99ff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Definisani ciljevi upotrebe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74"/>
              </a:spcBef>
              <a:buClr>
                <a:srgbClr val="cc99ff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Okolina spremna na saradnju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ffff"/>
                </a:solidFill>
                <a:latin typeface="Times New Roman"/>
              </a:rPr>
              <a:t>Pareto dijagrami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Izdvajaju se 3 oblasti:*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Područje A – grupa veoma uticajnih svojstava i karakteristika (obuhvata 70-80% kumulativnog iznos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Područje B – grupa uticajnih svojstava i karakteristika (obuhvata 90-95% kumulativnog iznos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Područje C – grupa manje uticajnih svojstava i karakteristika (obuhvata preostali dio kumulativnog iznosa, a to je 5-10% kumulativnog iznos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1" name="Picture 10" descr=""/>
          <p:cNvPicPr/>
          <p:nvPr/>
        </p:nvPicPr>
        <p:blipFill>
          <a:blip r:embed="rId1"/>
          <a:stretch/>
        </p:blipFill>
        <p:spPr>
          <a:xfrm>
            <a:off x="2835360" y="4724280"/>
            <a:ext cx="2286000" cy="20908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4" descr=""/>
          <p:cNvPicPr/>
          <p:nvPr/>
        </p:nvPicPr>
        <p:blipFill>
          <a:blip r:embed="rId2"/>
          <a:stretch/>
        </p:blipFill>
        <p:spPr>
          <a:xfrm>
            <a:off x="299880" y="4724280"/>
            <a:ext cx="2333880" cy="21193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6" descr=""/>
          <p:cNvPicPr/>
          <p:nvPr/>
        </p:nvPicPr>
        <p:blipFill>
          <a:blip r:embed="rId3"/>
          <a:stretch/>
        </p:blipFill>
        <p:spPr>
          <a:xfrm>
            <a:off x="5454720" y="4724280"/>
            <a:ext cx="3597120" cy="20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16000" y="404280"/>
            <a:ext cx="7772400" cy="50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ffff"/>
                </a:solidFill>
                <a:latin typeface="Times New Roman"/>
              </a:rPr>
              <a:t>Bar dijagrami i histogrami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267920"/>
            <a:ext cx="7772400" cy="16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>
              <a:lnSpc>
                <a:spcPct val="80000"/>
              </a:lnSpc>
              <a:spcBef>
                <a:spcPts val="3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ffffff"/>
                </a:solidFill>
                <a:latin typeface="Times New Roman"/>
              </a:rPr>
              <a:t>Bar dijagram</a:t>
            </a:r>
            <a:r>
              <a:rPr b="0" lang="hr-HR" sz="1400" spc="-1" strike="noStrike">
                <a:solidFill>
                  <a:srgbClr val="ffffff"/>
                </a:solidFill>
                <a:latin typeface="Times New Roman"/>
              </a:rPr>
              <a:t> -predstavlja sumarno podatke na jednostavan i razumljiv način u obliku grafičkih kolona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-233280">
              <a:lnSpc>
                <a:spcPct val="80000"/>
              </a:lnSpc>
              <a:spcBef>
                <a:spcPts val="3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ffffff"/>
                </a:solidFill>
                <a:latin typeface="Times New Roman"/>
              </a:rPr>
              <a:t>Histogram - </a:t>
            </a:r>
            <a:r>
              <a:rPr b="0" lang="hr-HR" sz="1400" spc="-1" strike="noStrike">
                <a:solidFill>
                  <a:srgbClr val="ffffff"/>
                </a:solidFill>
                <a:latin typeface="Times New Roman"/>
              </a:rPr>
              <a:t>Predstavlja vertikalni bar grafik koji prikazuje distribuciju podataka u obliku frekvencija pojavljivanja za specifične vrijednosti podatak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-233280">
              <a:lnSpc>
                <a:spcPct val="80000"/>
              </a:lnSpc>
              <a:spcBef>
                <a:spcPts val="3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Times New Roman"/>
              </a:rPr>
              <a:t>Postupak izrade histogram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505080" indent="-194040">
              <a:lnSpc>
                <a:spcPct val="8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Times New Roman"/>
              </a:rPr>
              <a:t>Prikupljanje podataka i informacija (varijabilni i atributivni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505080" indent="-194040">
              <a:lnSpc>
                <a:spcPct val="8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Times New Roman"/>
              </a:rPr>
              <a:t>Slaganje podataka u tablicu i njihovo brojanj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505080" indent="-194040">
              <a:lnSpc>
                <a:spcPct val="8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Times New Roman"/>
              </a:rPr>
              <a:t>Proračun raspona (R) za cijeli uzora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505080" indent="-194040">
              <a:lnSpc>
                <a:spcPct val="8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Times New Roman"/>
              </a:rPr>
              <a:t>Proračun broja razreda (k), i širine razreda (H)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505080" indent="-194040">
              <a:lnSpc>
                <a:spcPct val="8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Times New Roman"/>
              </a:rPr>
              <a:t>Izrada tablice frekvencij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505080" indent="-194040">
              <a:lnSpc>
                <a:spcPct val="8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Times New Roman"/>
              </a:rPr>
              <a:t>Izračun aritmetičke sred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505080" indent="-194040">
              <a:lnSpc>
                <a:spcPct val="8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Times New Roman"/>
              </a:rPr>
              <a:t>Crtanje samog histogram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6" name="Picture 7" descr=""/>
          <p:cNvPicPr/>
          <p:nvPr/>
        </p:nvPicPr>
        <p:blipFill>
          <a:blip r:embed="rId1"/>
          <a:stretch/>
        </p:blipFill>
        <p:spPr>
          <a:xfrm>
            <a:off x="900000" y="3857760"/>
            <a:ext cx="3184560" cy="29494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8" descr=""/>
          <p:cNvPicPr/>
          <p:nvPr/>
        </p:nvPicPr>
        <p:blipFill>
          <a:blip r:embed="rId2"/>
          <a:stretch/>
        </p:blipFill>
        <p:spPr>
          <a:xfrm>
            <a:off x="5364000" y="3836880"/>
            <a:ext cx="3240360" cy="29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ffff"/>
                </a:solidFill>
                <a:latin typeface="Times New Roman"/>
              </a:rPr>
              <a:t>Dijagram rasipanja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70000" y="1197000"/>
            <a:ext cx="7772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ffff"/>
                </a:solidFill>
                <a:latin typeface="Times New Roman"/>
              </a:rPr>
              <a:t>Dijagram rasipanja – </a:t>
            </a:r>
            <a:r>
              <a:rPr b="0" lang="hr-HR" sz="1600" spc="-1" strike="noStrike">
                <a:solidFill>
                  <a:srgbClr val="ffffff"/>
                </a:solidFill>
                <a:latin typeface="Times New Roman"/>
              </a:rPr>
              <a:t>grafički  metod za proučavanje odnosa između dva povezana skupa podatak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imes New Roman"/>
              </a:rPr>
              <a:t>Crtanjem dijagrama rasipanja dobijamo informacije o postojanju veza kao i o njihovom smjeru, obliku i jačini među zavisnim varijablam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imes New Roman"/>
              </a:rPr>
              <a:t>U oblasti kvaliteta provjerava se postojanje relacije između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imes New Roman"/>
              </a:rPr>
              <a:t>Karakteristike kvaliteta i faktora koji utiču na nj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imes New Roman"/>
              </a:rPr>
              <a:t>Dvije povezane karakteristike kvaliteta i/il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imes New Roman"/>
              </a:rPr>
              <a:t>Dva faktora koja utiču na istu karakteristiku kvalite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imes New Roman"/>
              </a:rPr>
              <a:t>Konstruiše na osnovu prikupljenog skupa parova podatak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imes New Roman"/>
              </a:rPr>
              <a:t>Na apscisi se nanose vrijednosti nezavisno promjenljive 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imes New Roman"/>
              </a:rPr>
              <a:t>Na ordinati se nanose vrijednosti zavisno promjenljive 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imes New Roman"/>
              </a:rPr>
              <a:t>Na osnovu oblaka prikazanih tačaka vizuelno se može uočiti oblik aproksimativne linij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imes New Roman"/>
              </a:rPr>
              <a:t>Korelaciona analiza služi za utvrđivanje jačine veze posmatranih promjenljivih preko proračuna Pirsonovog koeficijenta (može imati vrijednost od -1 do +1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imes New Roman"/>
              </a:rPr>
              <a:t>Regresiona analiza – za pronalaženje matematičkog oblika povezanosti između jedne zavisne i jedne ili više nezavisnih promjenljivi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0" name="Object 4"/>
          <p:cNvGraphicFramePr/>
          <p:nvPr/>
        </p:nvGraphicFramePr>
        <p:xfrm>
          <a:off x="2587680" y="5326200"/>
          <a:ext cx="2050920" cy="148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87680" y="5326200"/>
                    <a:ext cx="205092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Object 6"/>
          <p:cNvGraphicFramePr/>
          <p:nvPr/>
        </p:nvGraphicFramePr>
        <p:xfrm>
          <a:off x="7020000" y="5295960"/>
          <a:ext cx="2124000" cy="15494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33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20000" y="5295960"/>
                    <a:ext cx="2124000" cy="15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Object 8"/>
          <p:cNvGraphicFramePr/>
          <p:nvPr/>
        </p:nvGraphicFramePr>
        <p:xfrm>
          <a:off x="247680" y="5346720"/>
          <a:ext cx="2266920" cy="14875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35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7680" y="5346720"/>
                    <a:ext cx="226692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Object 10"/>
          <p:cNvGraphicFramePr/>
          <p:nvPr/>
        </p:nvGraphicFramePr>
        <p:xfrm>
          <a:off x="4711680" y="5322960"/>
          <a:ext cx="2308320" cy="152244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237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1680" y="5322960"/>
                    <a:ext cx="2308320" cy="15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ffff"/>
                </a:solidFill>
                <a:latin typeface="Times New Roman"/>
              </a:rPr>
              <a:t>DIJAGRAM TOK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72960" indent="-372960"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Times New Roman"/>
              </a:rPr>
              <a:t>Svrha - </a:t>
            </a:r>
            <a:r>
              <a:rPr b="0" lang="hr-HR" sz="1800" spc="-1" strike="noStrike">
                <a:solidFill>
                  <a:srgbClr val="ffffff"/>
                </a:solidFill>
                <a:latin typeface="Times New Roman"/>
              </a:rPr>
              <a:t>Vizuelizacija procesa na grafički način, koja omogućuje identifikaciju slabosti i konflikata u procesu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72960" indent="-37296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imes New Roman"/>
              </a:rPr>
              <a:t>Podrazumijeva logično raščlanjivanje problema ili aktivnosti na pojedinačne korake gdje su vidljivi početak, tok i kraj procesa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72960" indent="-372960"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Times New Roman"/>
              </a:rPr>
              <a:t>Postupak primjen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imes New Roman"/>
              </a:rPr>
              <a:t>Definisanje procesa koji želimo prikazati, odrediti granice procesa tj. gdje on počinje i završav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imes New Roman"/>
              </a:rPr>
              <a:t>Raščlanjivanje procesa na aktivnosti. Za svaku aktivnost identifikovati ulaze, izlaze, djelatnosti, načine međusobnog povezivanja i utvrditi odgovornosti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imes New Roman"/>
              </a:rPr>
              <a:t>Utvrditi oznake za proste aktivnosti, aktivnosti preispitivanja i aktivnosti verifikacije i odobravanj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imes New Roman"/>
              </a:rPr>
              <a:t>Definisati nosioce svake aktivnost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imes New Roman"/>
              </a:rPr>
              <a:t>Odrediti redoslijed aktivnost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imes New Roman"/>
              </a:rPr>
              <a:t>Povezati aktivnosti sa nosiocima aktivnost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imes New Roman"/>
              </a:rPr>
              <a:t>Povezati različite elemente dijagra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0" name=""/>
          <p:cNvGraphicFramePr/>
          <p:nvPr/>
        </p:nvGraphicFramePr>
        <p:xfrm>
          <a:off x="1042920" y="1773360"/>
          <a:ext cx="7704360" cy="4591080"/>
        </p:xfrm>
        <a:graphic>
          <a:graphicData uri="http://schemas.openxmlformats.org/drawingml/2006/table">
            <a:tbl>
              <a:tblPr/>
              <a:tblGrid>
                <a:gridCol w="1584360"/>
                <a:gridCol w="6120000"/>
              </a:tblGrid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imbo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Značenje simbol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jedinačni koraci (zadaci, aktivnosti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ispitivanj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dluka (da-ne, može- ne može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četak i kraj proces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kumentacij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trelica pokazuje smjer ili tijek proces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1" name="Rectangle 11"/>
          <p:cNvSpPr/>
          <p:nvPr/>
        </p:nvSpPr>
        <p:spPr>
          <a:xfrm>
            <a:off x="0" y="1589040"/>
            <a:ext cx="217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2" name="Object 8"/>
          <p:cNvGraphicFramePr/>
          <p:nvPr/>
        </p:nvGraphicFramePr>
        <p:xfrm>
          <a:off x="1403280" y="2565360"/>
          <a:ext cx="858960" cy="46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2565360"/>
                    <a:ext cx="85896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Rectangle 14"/>
          <p:cNvSpPr/>
          <p:nvPr/>
        </p:nvSpPr>
        <p:spPr>
          <a:xfrm>
            <a:off x="0" y="1589040"/>
            <a:ext cx="217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5" name="Object 7"/>
          <p:cNvGraphicFramePr/>
          <p:nvPr/>
        </p:nvGraphicFramePr>
        <p:xfrm>
          <a:off x="1476360" y="3933720"/>
          <a:ext cx="792000" cy="5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6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76360" y="3933720"/>
                    <a:ext cx="79200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Rectangle 17"/>
          <p:cNvSpPr/>
          <p:nvPr/>
        </p:nvSpPr>
        <p:spPr>
          <a:xfrm>
            <a:off x="0" y="1589040"/>
            <a:ext cx="217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8" name="Object 6"/>
          <p:cNvGraphicFramePr/>
          <p:nvPr/>
        </p:nvGraphicFramePr>
        <p:xfrm>
          <a:off x="1403280" y="4653000"/>
          <a:ext cx="792360" cy="420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9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4653000"/>
                    <a:ext cx="79236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Rectangle 20"/>
          <p:cNvSpPr/>
          <p:nvPr/>
        </p:nvSpPr>
        <p:spPr>
          <a:xfrm>
            <a:off x="2843280" y="11509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1" name="Object 5"/>
          <p:cNvGraphicFramePr/>
          <p:nvPr/>
        </p:nvGraphicFramePr>
        <p:xfrm>
          <a:off x="1474920" y="5229360"/>
          <a:ext cx="726840" cy="420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2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74920" y="5229360"/>
                    <a:ext cx="72684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Rectangle 23"/>
          <p:cNvSpPr/>
          <p:nvPr/>
        </p:nvSpPr>
        <p:spPr>
          <a:xfrm>
            <a:off x="3780000" y="790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4" name="Object 4"/>
          <p:cNvGraphicFramePr/>
          <p:nvPr/>
        </p:nvGraphicFramePr>
        <p:xfrm>
          <a:off x="1258920" y="5950080"/>
          <a:ext cx="1152360" cy="180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5" name="Object 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258920" y="5950080"/>
                    <a:ext cx="1152360" cy="18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ff"/>
                </a:solidFill>
                <a:latin typeface="Times New Roman"/>
              </a:rPr>
              <a:t>Osnovni simboli za izradu dijagrama toka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7" name="AutoShape 70"/>
          <p:cNvSpPr/>
          <p:nvPr/>
        </p:nvSpPr>
        <p:spPr>
          <a:xfrm>
            <a:off x="1403280" y="3284640"/>
            <a:ext cx="865080" cy="43164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ffff"/>
                </a:solidFill>
                <a:latin typeface="Times New Roman"/>
              </a:rPr>
              <a:t>Primjer dijagrama tok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59" name="Picture 6" descr=""/>
          <p:cNvPicPr/>
          <p:nvPr/>
        </p:nvPicPr>
        <p:blipFill>
          <a:blip r:embed="rId1"/>
          <a:stretch/>
        </p:blipFill>
        <p:spPr>
          <a:xfrm>
            <a:off x="1692360" y="1916280"/>
            <a:ext cx="6297480" cy="45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Metode pobolj</a:t>
            </a:r>
            <a:r>
              <a:rPr b="0" lang="sr-Latn-ME" sz="3600" spc="-1" strike="noStrike">
                <a:solidFill>
                  <a:srgbClr val="00ffff"/>
                </a:solidFill>
                <a:latin typeface="Times New Roman"/>
              </a:rPr>
              <a:t>š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avanja kvalitet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etod – ustaljen na</a:t>
            </a: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č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in obavljanja nekog posl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ajznačajnije metode za poboljšavanje kvaliteta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SPC meto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FMEA meto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Benčmark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QFD meto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6 Sigma (Six Sigm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2" name="Picture 3" descr=""/>
          <p:cNvPicPr/>
          <p:nvPr/>
        </p:nvPicPr>
        <p:blipFill>
          <a:blip r:embed="rId1"/>
          <a:stretch/>
        </p:blipFill>
        <p:spPr>
          <a:xfrm>
            <a:off x="3851280" y="2808360"/>
            <a:ext cx="475308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7772400" cy="80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S</a:t>
            </a:r>
            <a:r>
              <a:rPr b="0" lang="hr-HR" sz="2400" spc="-1" strike="noStrike">
                <a:solidFill>
                  <a:srgbClr val="00ffff"/>
                </a:solidFill>
                <a:latin typeface="Times New Roman"/>
              </a:rPr>
              <a:t>tatističk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</a:t>
            </a:r>
            <a:r>
              <a:rPr b="0" lang="hr-HR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kontrola</a:t>
            </a:r>
            <a:r>
              <a:rPr b="0" lang="hr-HR" sz="2400" spc="-1" strike="noStrike">
                <a:solidFill>
                  <a:srgbClr val="00ffff"/>
                </a:solidFill>
                <a:latin typeface="Times New Roman"/>
              </a:rPr>
              <a:t> proces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</a:t>
            </a:r>
            <a:r>
              <a:rPr b="0" lang="hr-HR" sz="2400" spc="-1" strike="noStrike">
                <a:solidFill>
                  <a:srgbClr val="00ffff"/>
                </a:solidFill>
                <a:latin typeface="Times New Roman"/>
              </a:rPr>
              <a:t> (SPC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00000" y="1699920"/>
            <a:ext cx="80424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imes New Roman"/>
              </a:rPr>
              <a:t>Statističk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hr-H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kontrola</a:t>
            </a:r>
            <a:r>
              <a:rPr b="0" lang="hr-HR" sz="1800" spc="-1" strike="noStrike">
                <a:solidFill>
                  <a:srgbClr val="ffffff"/>
                </a:solidFill>
                <a:latin typeface="Times New Roman"/>
              </a:rPr>
              <a:t> proce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hr-HR" sz="1800" spc="-1" strike="noStrike">
                <a:solidFill>
                  <a:srgbClr val="ffffff"/>
                </a:solidFill>
                <a:latin typeface="Times New Roman"/>
              </a:rPr>
              <a:t> (SPC) –koristi se za mjerenje promjenljivih u procesu i za utvrđivanje mogućnosti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cesa </a:t>
            </a:r>
            <a:r>
              <a:rPr b="0" lang="hr-HR" sz="1800" spc="-1" strike="noStrike">
                <a:solidFill>
                  <a:srgbClr val="ffffff"/>
                </a:solidFill>
                <a:latin typeface="Times New Roman"/>
              </a:rPr>
              <a:t>da ostvaruje rezultate (proizvode) određenih performansi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imes New Roman"/>
              </a:rPr>
              <a:t>SPC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etode kontrole su skup metoda i tehnika</a:t>
            </a:r>
            <a:r>
              <a:rPr b="0" lang="sr-Latn-ME" sz="1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2160" indent="-45720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imes New Roman"/>
              </a:rPr>
              <a:t>Prikupljanja podataka (putem kontrolnih lista- obrazaca za prikupljanje podatak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2160" indent="-45720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imes New Roman"/>
              </a:rPr>
              <a:t>Organizovanja i prezentacije podataka (putem bar dijagrama i histogram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2160" indent="-45720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imes New Roman"/>
              </a:rPr>
              <a:t>Analize i tumačenja podataka (korišćenjem kontrolnih karata, testiranjem hipoteza, korelacionom i regresionom analizom...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imes New Roman"/>
              </a:rPr>
              <a:t>SPC stvara preduslove za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2160" indent="-45720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imes New Roman"/>
              </a:rPr>
              <a:t>Prelazak sa inspekcije na prevenciju kvalite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2160" indent="-45720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imes New Roman"/>
              </a:rPr>
              <a:t>Sistematsko unapređenje nivoa kvaliteta proizvo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2160" indent="-45720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imes New Roman"/>
              </a:rPr>
              <a:t>Planiranje proizvodnje sa nultom gresko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2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7772400" cy="80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400" spc="-1" strike="noStrike">
                <a:solidFill>
                  <a:srgbClr val="00ffff"/>
                </a:solidFill>
                <a:latin typeface="Times New Roman"/>
              </a:rPr>
              <a:t>FMEA  (Failure Mode and Effect Analyzis)- Analiza pojave i uticaja otkaza (analiza rizika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00000" y="2276640"/>
            <a:ext cx="80424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MEA je tehnika koja daje odgovor na pitanje: Šta može da otkaže; Kako otkazuje; 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  <a:ea typeface="Arial"/>
              </a:rPr>
              <a:t>koliko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često 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  <a:ea typeface="Arial"/>
              </a:rPr>
              <a:t>ć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da otkazuj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  <a:ea typeface="Arial"/>
              </a:rPr>
              <a:t>e;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Koji su efekti otkaz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  <a:ea typeface="Arial"/>
              </a:rPr>
              <a:t>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; Koje su posle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  <a:ea typeface="Arial"/>
              </a:rPr>
              <a:t>dic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otkazivanja po pouzdan</a:t>
            </a:r>
            <a:r>
              <a:rPr b="0" lang="sr-Latn-ME" sz="1600" spc="-1" strike="noStrike">
                <a:solidFill>
                  <a:srgbClr val="ffffff"/>
                </a:solidFill>
                <a:latin typeface="Arial"/>
                <a:ea typeface="Arial"/>
              </a:rPr>
              <a:t>os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/ sigurnosti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  <a:ea typeface="Arial"/>
              </a:rPr>
              <a:t>Primjena za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  <a:ea typeface="Arial"/>
              </a:rPr>
              <a:t>Projektovanje sistem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  <a:ea typeface="Arial"/>
              </a:rPr>
              <a:t>Izradu programa unapređenja kvalite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  <a:ea typeface="Arial"/>
              </a:rPr>
              <a:t>Planiranje sistema održavanj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  <a:ea typeface="Arial"/>
              </a:rPr>
              <a:t>Koristi od FMEA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  <a:ea typeface="Arial"/>
              </a:rPr>
              <a:t>Preventivno planiranj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  <a:ea typeface="Arial"/>
              </a:rPr>
              <a:t>Identifikovanje zahtjeva za izmjenam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  <a:ea typeface="Arial"/>
              </a:rPr>
              <a:t>Smanjenjenje troško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  <a:ea typeface="Arial"/>
              </a:rPr>
              <a:t>Povećanje efikasnost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  <a:ea typeface="Arial"/>
              </a:rPr>
              <a:t>Smanjenje cijene troškova naknadnog održavanj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Arial"/>
                <a:ea typeface="Arial"/>
              </a:rPr>
              <a:t>Umanjivanje ukupnih aktivnosti koje ne doprinose dodavanju vrijednosti proces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7772400" cy="80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400" spc="-1" strike="noStrike">
                <a:solidFill>
                  <a:srgbClr val="00ffff"/>
                </a:solidFill>
                <a:latin typeface="Times New Roman"/>
              </a:rPr>
              <a:t>FMEA  (Failure Mode and Effect Analyzis)- Analiza pojave i uticaja otkaza (analiza rizika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00000" y="1988640"/>
            <a:ext cx="80424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  <a:ea typeface="Arial"/>
              </a:rPr>
              <a:t>Koraci primjene za slučaj razvoja novog projekta: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  <a:ea typeface="Arial"/>
              </a:rPr>
              <a:t>Analiza projekta: utvrđivanje mogućih grešaka, identifikacija posljedica eventualnih grešaka, identifikovanje uzroka grešaka, analiza sistema kontrole sa aspekta mogućnosti blagovremenog sprečavanja pojave grešaka, utvrđivanje vjerovatnoće nastanka greške za svaki uzrok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  <a:ea typeface="Arial"/>
              </a:rPr>
              <a:t>Ocjena postojećeg stanja:kroz proračun (bodovnu ocjenu od 1-9) koeficijenata rizika i koeficijent prioriteta rizika (KPR=R1*R2*R3):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  <a:ea typeface="Arial"/>
              </a:rPr>
              <a:t>R1 -Faktor rizika pojave greške- vjerovatnoće nastanka neusaglašenosti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  <a:ea typeface="Arial"/>
              </a:rPr>
              <a:t>R2- Faktor rizika posljedice greške – značajnost ili težina greške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  <a:ea typeface="Arial"/>
              </a:rPr>
              <a:t>R3- Faktor rizika neotkrivanja greške – mogućnost otkrivanja neusaglašenosti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  <a:ea typeface="Arial"/>
              </a:rPr>
              <a:t>KPR- Koeficijent prioriteta rizika – stepen rizičnosti projektnog rješenj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  <a:ea typeface="Arial"/>
              </a:rPr>
              <a:t>Kontrola FMEA  sa aspekta tačnosti i sa aspekta ocjene projekta (KPR mora biti manje od kritičnih vrijednosti koje su određene u rasponu od 1-1000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  <a:ea typeface="Arial"/>
              </a:rPr>
              <a:t>Planiranje i sprovođenje korektivnih mjera na projektu (eliminisanje mogućih uzroka greške, ublažavanje mogućih posljedica i/ili povećanje vjerovatnoće blagovremenog otkrivanja grešaka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Arial"/>
                <a:ea typeface="Arial"/>
              </a:rPr>
              <a:t>Ocjena rezultata korektivnih mjera i ocjena uticaja na smanjenje koeficijenta prioriteta rizika KPR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ffff"/>
                </a:solidFill>
                <a:latin typeface="Times New Roman"/>
              </a:rPr>
              <a:t>Sistematizacija alata za upravljanje kvalitetom 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170000" y="1945800"/>
            <a:ext cx="7772400" cy="465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451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Kontrolne liste </a:t>
            </a:r>
            <a:r>
              <a:rPr b="0" lang="sr-Latn-ME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heklists</a:t>
            </a:r>
            <a:r>
              <a:rPr b="0" lang="sr-Latn-ME" sz="1800" spc="-1" strike="noStrike">
                <a:solidFill>
                  <a:srgbClr val="ffffff"/>
                </a:solidFill>
                <a:latin typeface="Times New Roman"/>
              </a:rPr>
              <a:t>)- obrasci za prikupljanje ili provjeru podataka  u formi tabela ili liste pitanj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63600" indent="-363600">
              <a:spcBef>
                <a:spcPts val="451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Times New Roman"/>
              </a:rPr>
              <a:t>Dijagram uzrok/posljedica- Ishikawa diagram-</a:t>
            </a:r>
            <a:r>
              <a:rPr b="0" lang="hr-HR" sz="1800" spc="-1" strike="noStrike">
                <a:solidFill>
                  <a:srgbClr val="ffffff"/>
                </a:solidFill>
                <a:latin typeface="Times New Roman"/>
              </a:rPr>
              <a:t> služi za  detaljnu analizu odnosa između stanja sisema i uticajnih faktora (uzročnika) na to stanj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63600" indent="-363600">
              <a:spcBef>
                <a:spcPts val="451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Times New Roman"/>
              </a:rPr>
              <a:t>Kontrolne karte</a:t>
            </a:r>
            <a:r>
              <a:rPr b="0" lang="hr-HR" sz="1800" spc="-1" strike="noStrike">
                <a:solidFill>
                  <a:srgbClr val="ffffff"/>
                </a:solidFill>
                <a:latin typeface="Times New Roman"/>
              </a:rPr>
              <a:t> –grafici u kojima se prikazuje ponašanje procesa u vremenu i služe za ocenjivanje da li se proces odvija na zadovoljavajući nač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63600" indent="-363600">
              <a:spcBef>
                <a:spcPts val="451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Times New Roman"/>
              </a:rPr>
              <a:t>Pareto (ABC) dijagrami</a:t>
            </a:r>
            <a:r>
              <a:rPr b="0" lang="hr-HR" sz="1800" spc="-1" strike="noStrike">
                <a:solidFill>
                  <a:srgbClr val="ffffff"/>
                </a:solidFill>
                <a:latin typeface="Times New Roman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63600" indent="-363600">
              <a:spcBef>
                <a:spcPts val="451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Times New Roman"/>
              </a:rPr>
              <a:t>Histogram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63600" indent="-363600">
              <a:spcBef>
                <a:spcPts val="451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Times New Roman"/>
              </a:rPr>
              <a:t>Dijagram rasipanj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63600" indent="-363600">
              <a:spcBef>
                <a:spcPts val="451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Times New Roman"/>
              </a:rPr>
              <a:t>Dijagram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oka procesa</a:t>
            </a:r>
            <a:r>
              <a:rPr b="1" lang="sr-Latn-CS" sz="1800" spc="-1" strike="noStrike">
                <a:solidFill>
                  <a:srgbClr val="ffffff"/>
                </a:solidFill>
                <a:latin typeface="Times New Roman"/>
              </a:rPr>
              <a:t> -</a:t>
            </a: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r-HR" sz="1800" spc="-1" strike="noStrike">
                <a:solidFill>
                  <a:srgbClr val="ffffff"/>
                </a:solidFill>
                <a:latin typeface="Times New Roman"/>
              </a:rPr>
              <a:t>vizuelno prikazivanje odvijanja procesnih koraka, sa definisanim nosiocima aktivnosti, izlaznim dokumentima i mjestima preispitivanja i odluk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70" name="Content Placeholder 3" descr=""/>
          <p:cNvPicPr/>
          <p:nvPr/>
        </p:nvPicPr>
        <p:blipFill>
          <a:blip r:embed="rId1"/>
          <a:stretch/>
        </p:blipFill>
        <p:spPr>
          <a:xfrm>
            <a:off x="2260440" y="1946160"/>
            <a:ext cx="5591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3832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ffff"/>
                </a:solidFill>
                <a:latin typeface="Arial"/>
                <a:ea typeface="Arial"/>
              </a:rPr>
              <a:t>Benčmarking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755280" y="1052640"/>
            <a:ext cx="8186760" cy="50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benčmarking predstavlja sistematski i kontinuirani proces m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  <a:ea typeface="Arial"/>
              </a:rPr>
              <a:t>j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renja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 uporedjivanja poslovnih procesa jedne organizacije u odnosu na poslovne procese lidera radi dobijanja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cija koje će pomoći organizaciji da preduzme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kciju za poboljšanje svojih performansi.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meričk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  <a:ea typeface="Arial"/>
              </a:rPr>
              <a:t>i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cent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  <a:ea typeface="Arial"/>
              </a:rPr>
              <a:t>ar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za produktivnost i kvalitet 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PQC)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  <a:ea typeface="Arial"/>
              </a:rPr>
              <a:t>Benchmarking predstavlja kontinuiranu aktivnost poređenja procesa, proizvoda ili usluga sa sličnom aktivnošću poznatu kao najbolju u tom polju, sa svrhom uspostavljanja ambicioznih ali realnih ciljeva unapređenja i akcij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Benčmarking predstavlja kontinuirani proces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oredjenja proizvoda, usluga i procesa u odnosu na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ajjače konkurente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  <a:ea typeface="Arial"/>
              </a:rPr>
              <a:t>Osnovni tipovi benčmarkinga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  <a:ea typeface="Arial"/>
              </a:rPr>
              <a:t>Interni – porede se delovi u okviru jednog preduzeć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  <a:ea typeface="Arial"/>
              </a:rPr>
              <a:t>Konkurentski-(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kompetitivni</a:t>
            </a:r>
            <a:r>
              <a:rPr b="0" lang="sr-Latn-ME" sz="1200" spc="-1" strike="noStrike">
                <a:solidFill>
                  <a:srgbClr val="ffffff"/>
                </a:solidFill>
                <a:latin typeface="Arial"/>
                <a:ea typeface="Arial"/>
              </a:rPr>
              <a:t>, eksterni) – preduzeće se poredi sa konkurentima u funkciji dobijanja slike o poslovanju drugih (direktni konkurenti ili ek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vivalentne organizacije koje rade u drugim zemljama i opslužuju druga tržišt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  <a:ea typeface="Arial"/>
              </a:rPr>
              <a:t>Funkcionalni – preduzeće poredi neku od svojih funkcija sa funkcijama nekonkurentskog preduzeć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ffffff"/>
                </a:solidFill>
                <a:latin typeface="Arial"/>
                <a:ea typeface="Arial"/>
              </a:rPr>
              <a:t>Generički – poređenje na nivou različitih industrij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3" name="Picture 5" descr=""/>
          <p:cNvPicPr/>
          <p:nvPr/>
        </p:nvPicPr>
        <p:blipFill>
          <a:blip r:embed="rId1"/>
          <a:stretch/>
        </p:blipFill>
        <p:spPr>
          <a:xfrm>
            <a:off x="4356000" y="5732640"/>
            <a:ext cx="2592360" cy="19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38320" y="14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ffff"/>
                </a:solidFill>
                <a:latin typeface="Arial"/>
                <a:ea typeface="Arial"/>
              </a:rPr>
              <a:t>Benčmarking - postupak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79280" y="1292400"/>
            <a:ext cx="5757840" cy="50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  <a:ea typeface="Arial"/>
              </a:rPr>
              <a:t>U </a:t>
            </a:r>
            <a:r>
              <a:rPr b="0" lang="sr-Latn-CS" sz="1400" spc="-1" strike="noStrike">
                <a:solidFill>
                  <a:srgbClr val="ffffff"/>
                </a:solidFill>
                <a:latin typeface="Arial"/>
                <a:ea typeface="Arial"/>
              </a:rPr>
              <a:t>značajnoj mjeri podudara sa PDCA ciklusom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laniranje se sastoji od koraka: odrediti što se prikazuje referentnim vrijednostima, defini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  <a:ea typeface="Arial"/>
              </a:rPr>
              <a:t>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ati ključne pokazatelje djelatnosti, defini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  <a:ea typeface="Arial"/>
              </a:rPr>
              <a:t>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ati partnera za benchmarking, utvrditi metodu prikupljanja podataka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  <a:ea typeface="Arial"/>
              </a:rPr>
              <a:t> .</a:t>
            </a:r>
            <a:r>
              <a:rPr b="0" lang="sr-Latn-CS" sz="1400" spc="-1" strike="noStrike">
                <a:solidFill>
                  <a:srgbClr val="ffffff"/>
                </a:solidFill>
                <a:latin typeface="Arial"/>
                <a:ea typeface="Arial"/>
              </a:rPr>
              <a:t> Najznačajnija pitanja na koja treba odgovoriti u ovoj fazi su: koji se proizvodi porede, koji procesi se porede, koje funkcije se porede, kakav će biti način prikupljanja i obrade informacija, kako odabrati druge organizacije za poređenje..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Arial"/>
                <a:ea typeface="Arial"/>
              </a:rPr>
              <a:t>Izvođenje; </a:t>
            </a:r>
            <a:r>
              <a:rPr b="0" lang="sr-Latn-CS" sz="1400" spc="-1" strike="noStrike">
                <a:solidFill>
                  <a:srgbClr val="ffffff"/>
                </a:solidFill>
                <a:latin typeface="Arial"/>
                <a:ea typeface="Arial"/>
              </a:rPr>
              <a:t>podrazumijeva organizovanje benčmarkinga – terensko prikupljanje podataka, posjetu drugim organizacijama..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Analiza 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  <a:ea typeface="Arial"/>
              </a:rPr>
              <a:t>obuhvata </a:t>
            </a:r>
            <a:r>
              <a:rPr b="0" lang="sr-Latn-CS" sz="1400" spc="-1" strike="noStrike">
                <a:solidFill>
                  <a:srgbClr val="ffffff"/>
                </a:solidFill>
                <a:latin typeface="Arial"/>
                <a:ea typeface="Arial"/>
              </a:rPr>
              <a:t>sistematizaciju saznanja i njjihovu primjenu u obliku određenih uputstava koja će se primenjivati, kao i njihovo mjerenje i usaglašavanaje., odnosno obuhvata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repoznavanje slabih t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  <a:ea typeface="Arial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čaka u radu i predviđanje budućeg djelovanja; 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  <a:ea typeface="Arial"/>
              </a:rPr>
              <a:t>saopštavanje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zultat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  <a:ea typeface="Arial"/>
              </a:rPr>
              <a:t>a, odobrenje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ostav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  <a:ea typeface="Arial"/>
              </a:rPr>
              <a:t>ljanje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funkcionaln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  <a:ea typeface="Arial"/>
              </a:rPr>
              <a:t>ih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ciljev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  <a:ea typeface="Arial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i 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  <a:ea typeface="Arial"/>
              </a:rPr>
              <a:t>sprovođenj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planova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0" lang="sr-Latn-CS" sz="1400" spc="-1" strike="noStrike">
                <a:solidFill>
                  <a:srgbClr val="ffffff"/>
                </a:solidFill>
                <a:latin typeface="Arial"/>
                <a:ea typeface="Arial"/>
              </a:rPr>
              <a:t> Glavno pitanje na koje treba dati odgovor u ovoj fazi je: šta smo naučili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Akcija 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  <a:ea typeface="Arial"/>
              </a:rPr>
              <a:t>sprovođenje i nadgledanj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poboljšanja, mjeri</a:t>
            </a:r>
            <a:r>
              <a:rPr b="0" lang="sr-Latn-ME" sz="1400" spc="-1" strike="noStrike">
                <a:solidFill>
                  <a:srgbClr val="ffffff"/>
                </a:solidFill>
                <a:latin typeface="Arial"/>
                <a:ea typeface="Arial"/>
              </a:rPr>
              <a:t>enj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rezultate prema željama i potrebama i provjeriti referentne vrijednosti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5937120" y="1946160"/>
            <a:ext cx="3005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7" name="Group 8"/>
          <p:cNvGrpSpPr/>
          <p:nvPr/>
        </p:nvGrpSpPr>
        <p:grpSpPr>
          <a:xfrm>
            <a:off x="6054840" y="646200"/>
            <a:ext cx="3089160" cy="6037200"/>
            <a:chOff x="6054840" y="646200"/>
            <a:chExt cx="3089160" cy="6037200"/>
          </a:xfrm>
        </p:grpSpPr>
        <p:pic>
          <p:nvPicPr>
            <p:cNvPr id="278" name="Picture 9" descr=""/>
            <p:cNvPicPr/>
            <p:nvPr/>
          </p:nvPicPr>
          <p:blipFill>
            <a:blip r:embed="rId1"/>
            <a:stretch/>
          </p:blipFill>
          <p:spPr>
            <a:xfrm>
              <a:off x="6054840" y="646200"/>
              <a:ext cx="3089160" cy="270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Picture 10" descr=""/>
            <p:cNvPicPr/>
            <p:nvPr/>
          </p:nvPicPr>
          <p:blipFill>
            <a:blip r:embed="rId2"/>
            <a:stretch/>
          </p:blipFill>
          <p:spPr>
            <a:xfrm>
              <a:off x="6066720" y="3382920"/>
              <a:ext cx="3006000" cy="330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160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ffff"/>
                </a:solidFill>
                <a:latin typeface="Times New Roman"/>
              </a:rPr>
              <a:t>Razvijanje funkcije kvaliteta (QFD) – “Kuće kvaliteta”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042560" y="1557000"/>
            <a:ext cx="7899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azvijena u Kobeu (Japan) 70-tih godina, u brodogradilištu</a:t>
            </a: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itsubishi, ali je ubrzo našla prim</a:t>
            </a: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nu i u drugim granama industrije. Toyota je</a:t>
            </a: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koristi još od 1973. godine, a kasnije je prihvata i Honda (1979.), Ford (1983.),</a:t>
            </a: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Volvo i Saab (1987.)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Širu prim</a:t>
            </a: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nu u razvijenim zemljama zapadne Evrope i USA</a:t>
            </a: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etoda dostiže 1991. godin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vrha</a:t>
            </a:r>
            <a:r>
              <a:rPr b="1" lang="sr-Latn-C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84080" indent="-33588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zvoj ili redizajn proizvoda zasnovan na zaht</a:t>
            </a: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vima kupa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84080" indent="-33588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bezb</a:t>
            </a: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đ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je procesno fokusiranje na kupce i njihove zaht</a:t>
            </a: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ve u svim fazam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232280" indent="-3358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 u="sng">
                <a:solidFill>
                  <a:srgbClr val="ffffff"/>
                </a:solidFill>
                <a:uFillTx/>
                <a:latin typeface="Times New Roman"/>
              </a:rPr>
              <a:t>pretvaranje </a:t>
            </a:r>
            <a:r>
              <a:rPr b="1" lang="hr-HR" sz="1600" spc="-1" strike="noStrike" u="sng">
                <a:solidFill>
                  <a:srgbClr val="ffffff"/>
                </a:solidFill>
                <a:uFillTx/>
                <a:latin typeface="Times New Roman"/>
              </a:rPr>
              <a:t>zahtjeva kupaca </a:t>
            </a:r>
            <a:r>
              <a:rPr b="0" lang="hr-HR" sz="1600" spc="-1" strike="noStrike" u="sng">
                <a:solidFill>
                  <a:srgbClr val="ffffff"/>
                </a:solidFill>
                <a:uFillTx/>
                <a:latin typeface="Times New Roman"/>
              </a:rPr>
              <a:t>u karakteristike proizvoda (prva kuća kvalitet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232280" indent="-3358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imes New Roman"/>
              </a:rPr>
              <a:t>pretvaranje karakteristika proizvoda /usluge u karakteristike komponenti (druga kuća kvalitet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232280" indent="-3358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imes New Roman"/>
              </a:rPr>
              <a:t>pretvaranje karakteristika komponenti u tehnologiju izrade -karakteristike procesa (treća kuća kvalitet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232280" indent="-3358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imes New Roman"/>
              </a:rPr>
              <a:t>pretvaranje procesa u </a:t>
            </a:r>
            <a:r>
              <a:rPr b="1" lang="hr-HR" sz="1600" spc="-1" strike="noStrike">
                <a:solidFill>
                  <a:srgbClr val="ffffff"/>
                </a:solidFill>
                <a:latin typeface="Times New Roman"/>
              </a:rPr>
              <a:t>radna uputstva </a:t>
            </a:r>
            <a:r>
              <a:rPr b="0" lang="hr-HR" sz="1600" spc="-1" strike="noStrike">
                <a:solidFill>
                  <a:srgbClr val="ffffff"/>
                </a:solidFill>
                <a:latin typeface="Times New Roman"/>
              </a:rPr>
              <a:t>(četvrta kuća kvalitet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84080" indent="-33588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omoviše višefunkcionalni timski</a:t>
            </a: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ad i konkurentni inženjering u kompaniji. Skraćenje vremena razvoja proizvoda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Opis </a:t>
            </a:r>
            <a:r>
              <a:rPr b="1" lang="sr-Latn-CS" sz="16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istem planiranja kroz proces razvoja proizvoda, od inicijalnog planiranja proizvoda, kroz</a:t>
            </a: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etaljan plan razvoja proizvoda, proces planiranja i finalno planiranje proizvodnje</a:t>
            </a: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. Sastoji se od listi na kojima se definiše “šta” i druge liste na kojoj se definiše “kako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imes New Roman"/>
              </a:rPr>
              <a:t>Ograničenja primje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84080" indent="-33588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imes New Roman"/>
              </a:rPr>
              <a:t>Veliki broj zahtje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84080" indent="-33588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imes New Roman"/>
              </a:rPr>
              <a:t>Različite grupe kupa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5"/>
          <p:cNvSpPr/>
          <p:nvPr/>
        </p:nvSpPr>
        <p:spPr>
          <a:xfrm>
            <a:off x="633240" y="2903400"/>
            <a:ext cx="1668600" cy="265284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Text Box 6"/>
          <p:cNvSpPr/>
          <p:nvPr/>
        </p:nvSpPr>
        <p:spPr>
          <a:xfrm rot="5400000">
            <a:off x="206640" y="2707560"/>
            <a:ext cx="4590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Text Box 7"/>
          <p:cNvSpPr/>
          <p:nvPr/>
        </p:nvSpPr>
        <p:spPr>
          <a:xfrm rot="16200000">
            <a:off x="-729000" y="4045320"/>
            <a:ext cx="2652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Zahtjevi kup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Rectangle 8"/>
          <p:cNvSpPr/>
          <p:nvPr/>
        </p:nvSpPr>
        <p:spPr>
          <a:xfrm>
            <a:off x="633240" y="2371680"/>
            <a:ext cx="1668600" cy="53172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  <a:ea typeface="Arial"/>
              </a:rPr>
              <a:t>Inžinjersk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  <a:ea typeface="Arial"/>
              </a:rPr>
              <a:t>karakteristik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AutoShape 9"/>
          <p:cNvSpPr/>
          <p:nvPr/>
        </p:nvSpPr>
        <p:spPr>
          <a:xfrm>
            <a:off x="663480" y="1690560"/>
            <a:ext cx="1617840" cy="682920"/>
          </a:xfrm>
          <a:prstGeom prst="triangle">
            <a:avLst>
              <a:gd name="adj" fmla="val 50000"/>
            </a:avLst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Rectangle 10"/>
          <p:cNvSpPr/>
          <p:nvPr/>
        </p:nvSpPr>
        <p:spPr>
          <a:xfrm>
            <a:off x="2935440" y="2903400"/>
            <a:ext cx="1671480" cy="265284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Text Box 11"/>
          <p:cNvSpPr/>
          <p:nvPr/>
        </p:nvSpPr>
        <p:spPr>
          <a:xfrm rot="5400000">
            <a:off x="2511720" y="2707560"/>
            <a:ext cx="4590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Text Box 12"/>
          <p:cNvSpPr/>
          <p:nvPr/>
        </p:nvSpPr>
        <p:spPr>
          <a:xfrm rot="16200000">
            <a:off x="1380960" y="3905280"/>
            <a:ext cx="2652480" cy="6426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Inžinjerske karakterostik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Rectangle 13"/>
          <p:cNvSpPr/>
          <p:nvPr/>
        </p:nvSpPr>
        <p:spPr>
          <a:xfrm>
            <a:off x="2935440" y="2371680"/>
            <a:ext cx="1671480" cy="53172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  <a:ea typeface="Arial"/>
              </a:rPr>
              <a:t>Karakteristik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  <a:ea typeface="Arial"/>
              </a:rPr>
              <a:t>dijelov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AutoShape 14"/>
          <p:cNvSpPr/>
          <p:nvPr/>
        </p:nvSpPr>
        <p:spPr>
          <a:xfrm>
            <a:off x="2940120" y="1690560"/>
            <a:ext cx="1641240" cy="682920"/>
          </a:xfrm>
          <a:prstGeom prst="triangle">
            <a:avLst>
              <a:gd name="adj" fmla="val 50000"/>
            </a:avLst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Rectangle 15"/>
          <p:cNvSpPr/>
          <p:nvPr/>
        </p:nvSpPr>
        <p:spPr>
          <a:xfrm>
            <a:off x="4848120" y="2903400"/>
            <a:ext cx="1952640" cy="265284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Text Box 16"/>
          <p:cNvSpPr/>
          <p:nvPr/>
        </p:nvSpPr>
        <p:spPr>
          <a:xfrm rot="5400000">
            <a:off x="4671000" y="2707200"/>
            <a:ext cx="4590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Text Box 17"/>
          <p:cNvSpPr/>
          <p:nvPr/>
        </p:nvSpPr>
        <p:spPr>
          <a:xfrm rot="16200000">
            <a:off x="3518640" y="4042440"/>
            <a:ext cx="265248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Karakteristike dijelov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Rectangle 18"/>
          <p:cNvSpPr/>
          <p:nvPr/>
        </p:nvSpPr>
        <p:spPr>
          <a:xfrm>
            <a:off x="4848120" y="2371680"/>
            <a:ext cx="1952640" cy="53172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Ključne proces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operacij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AutoShape 19"/>
          <p:cNvSpPr/>
          <p:nvPr/>
        </p:nvSpPr>
        <p:spPr>
          <a:xfrm>
            <a:off x="4851360" y="1690560"/>
            <a:ext cx="1924200" cy="682920"/>
          </a:xfrm>
          <a:prstGeom prst="triangle">
            <a:avLst>
              <a:gd name="adj" fmla="val 50000"/>
            </a:avLst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Rectangle 20"/>
          <p:cNvSpPr/>
          <p:nvPr/>
        </p:nvSpPr>
        <p:spPr>
          <a:xfrm>
            <a:off x="7180200" y="2903400"/>
            <a:ext cx="1712880" cy="265284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Text Box 21"/>
          <p:cNvSpPr/>
          <p:nvPr/>
        </p:nvSpPr>
        <p:spPr>
          <a:xfrm rot="5400000">
            <a:off x="6760080" y="2707200"/>
            <a:ext cx="4590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Text Box 22"/>
          <p:cNvSpPr/>
          <p:nvPr/>
        </p:nvSpPr>
        <p:spPr>
          <a:xfrm rot="16200000">
            <a:off x="5875200" y="3908160"/>
            <a:ext cx="2652840" cy="6426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Ključne procesne operacij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Rectangle 23"/>
          <p:cNvSpPr/>
          <p:nvPr/>
        </p:nvSpPr>
        <p:spPr>
          <a:xfrm>
            <a:off x="7182000" y="2371680"/>
            <a:ext cx="1709640" cy="53172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  <a:ea typeface="Arial"/>
              </a:rPr>
              <a:t>Zahtjevi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Arial"/>
                <a:ea typeface="Arial"/>
              </a:rPr>
              <a:t>proizvodnj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AutoShape 24"/>
          <p:cNvSpPr/>
          <p:nvPr/>
        </p:nvSpPr>
        <p:spPr>
          <a:xfrm>
            <a:off x="7182000" y="1690560"/>
            <a:ext cx="1709640" cy="682920"/>
          </a:xfrm>
          <a:prstGeom prst="triangle">
            <a:avLst>
              <a:gd name="adj" fmla="val 50000"/>
            </a:avLst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Text Box 25"/>
          <p:cNvSpPr/>
          <p:nvPr/>
        </p:nvSpPr>
        <p:spPr>
          <a:xfrm>
            <a:off x="920880" y="3965400"/>
            <a:ext cx="10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Text Box 26"/>
          <p:cNvSpPr/>
          <p:nvPr/>
        </p:nvSpPr>
        <p:spPr>
          <a:xfrm>
            <a:off x="3225960" y="3965400"/>
            <a:ext cx="10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  <a:ea typeface="Arial"/>
              </a:rPr>
              <a:t>I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Text Box 27"/>
          <p:cNvSpPr/>
          <p:nvPr/>
        </p:nvSpPr>
        <p:spPr>
          <a:xfrm>
            <a:off x="5241960" y="3965400"/>
            <a:ext cx="10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  <a:ea typeface="Arial"/>
              </a:rPr>
              <a:t>II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Text Box 28"/>
          <p:cNvSpPr/>
          <p:nvPr/>
        </p:nvSpPr>
        <p:spPr>
          <a:xfrm>
            <a:off x="7473960" y="3965400"/>
            <a:ext cx="10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  <a:ea typeface="Arial"/>
              </a:rPr>
              <a:t>I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AutoShape 29"/>
          <p:cNvSpPr/>
          <p:nvPr/>
        </p:nvSpPr>
        <p:spPr>
          <a:xfrm rot="2378400">
            <a:off x="2092320" y="2463480"/>
            <a:ext cx="426960" cy="303120"/>
          </a:xfrm>
          <a:prstGeom prst="rightArrow">
            <a:avLst>
              <a:gd name="adj1" fmla="val 50000"/>
              <a:gd name="adj2" fmla="val 35214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AutoShape 30"/>
          <p:cNvSpPr/>
          <p:nvPr/>
        </p:nvSpPr>
        <p:spPr>
          <a:xfrm rot="2378400">
            <a:off x="4381560" y="2512800"/>
            <a:ext cx="426960" cy="303120"/>
          </a:xfrm>
          <a:prstGeom prst="rightArrow">
            <a:avLst>
              <a:gd name="adj1" fmla="val 50000"/>
              <a:gd name="adj2" fmla="val 35214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AutoShape 31"/>
          <p:cNvSpPr/>
          <p:nvPr/>
        </p:nvSpPr>
        <p:spPr>
          <a:xfrm rot="2378400">
            <a:off x="6659280" y="2491920"/>
            <a:ext cx="426960" cy="303480"/>
          </a:xfrm>
          <a:prstGeom prst="rightArrow">
            <a:avLst>
              <a:gd name="adj1" fmla="val 50000"/>
              <a:gd name="adj2" fmla="val 35172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Text Box 32"/>
          <p:cNvSpPr/>
          <p:nvPr/>
        </p:nvSpPr>
        <p:spPr>
          <a:xfrm>
            <a:off x="212760" y="5634000"/>
            <a:ext cx="21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Kuća kvalite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Text Box 33"/>
          <p:cNvSpPr/>
          <p:nvPr/>
        </p:nvSpPr>
        <p:spPr>
          <a:xfrm>
            <a:off x="2184480" y="5634000"/>
            <a:ext cx="25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Arial"/>
              </a:rPr>
              <a:t>Razvoj dijelov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Text Box 34"/>
          <p:cNvSpPr/>
          <p:nvPr/>
        </p:nvSpPr>
        <p:spPr>
          <a:xfrm>
            <a:off x="4782960" y="5634000"/>
            <a:ext cx="190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Arial"/>
              </a:rPr>
              <a:t>Planiranje proces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Text Box 35"/>
          <p:cNvSpPr/>
          <p:nvPr/>
        </p:nvSpPr>
        <p:spPr>
          <a:xfrm>
            <a:off x="6694560" y="5634000"/>
            <a:ext cx="21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Arial"/>
              </a:rPr>
              <a:t>Planiranje proizvodnj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Text Box 36"/>
          <p:cNvSpPr/>
          <p:nvPr/>
        </p:nvSpPr>
        <p:spPr>
          <a:xfrm>
            <a:off x="684360" y="476280"/>
            <a:ext cx="7416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hr-HR" sz="1800" spc="-1" strike="noStrike">
                <a:solidFill>
                  <a:srgbClr val="ffffff"/>
                </a:solidFill>
                <a:latin typeface="Arial"/>
                <a:ea typeface="Arial"/>
              </a:rPr>
              <a:t>Transfer kupčevih zahtjeva u proizvodnju kroz QF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  <a:ea typeface="Arial"/>
              </a:rPr>
              <a:t>Zairi, 1999, str. 33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ffff"/>
                </a:solidFill>
                <a:latin typeface="Times New Roman"/>
              </a:rPr>
              <a:t>“</a:t>
            </a:r>
            <a:r>
              <a:rPr b="0" lang="sr-Latn-CS" sz="3600" spc="-1" strike="noStrike">
                <a:solidFill>
                  <a:srgbClr val="00ffff"/>
                </a:solidFill>
                <a:latin typeface="Times New Roman"/>
              </a:rPr>
              <a:t>Kuća kvaliteta”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5" name="Line 3"/>
          <p:cNvSpPr/>
          <p:nvPr/>
        </p:nvSpPr>
        <p:spPr>
          <a:xfrm flipV="1">
            <a:off x="2916360" y="4005360"/>
            <a:ext cx="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6" name="Group 4"/>
          <p:cNvGrpSpPr/>
          <p:nvPr/>
        </p:nvGrpSpPr>
        <p:grpSpPr>
          <a:xfrm>
            <a:off x="1908000" y="1341360"/>
            <a:ext cx="6254640" cy="4652280"/>
            <a:chOff x="1908000" y="1341360"/>
            <a:chExt cx="6254640" cy="4652280"/>
          </a:xfrm>
        </p:grpSpPr>
        <p:pic>
          <p:nvPicPr>
            <p:cNvPr id="317" name="Picture 5" descr=""/>
            <p:cNvPicPr/>
            <p:nvPr/>
          </p:nvPicPr>
          <p:blipFill>
            <a:blip r:embed="rId1"/>
            <a:srcRect l="7680" t="0" r="2807" b="0"/>
            <a:stretch/>
          </p:blipFill>
          <p:spPr>
            <a:xfrm>
              <a:off x="1908000" y="1341360"/>
              <a:ext cx="6254640" cy="41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Text Box 6"/>
            <p:cNvSpPr/>
            <p:nvPr/>
          </p:nvSpPr>
          <p:spPr>
            <a:xfrm>
              <a:off x="5703480" y="2032200"/>
              <a:ext cx="15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900" spc="-1" strike="noStrike">
                  <a:solidFill>
                    <a:srgbClr val="000000"/>
                  </a:solidFill>
                  <a:latin typeface="Times New Roman"/>
                </a:rPr>
                <a:t>marketing informacije i ocjena korisnika-kupca postojeceg proizvoda u odnosu na one na trzistu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Line 7"/>
            <p:cNvSpPr/>
            <p:nvPr/>
          </p:nvSpPr>
          <p:spPr>
            <a:xfrm flipV="1">
              <a:off x="5414760" y="2607840"/>
              <a:ext cx="504720" cy="5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Text Box 8"/>
            <p:cNvSpPr/>
            <p:nvPr/>
          </p:nvSpPr>
          <p:spPr>
            <a:xfrm>
              <a:off x="4838400" y="5488200"/>
              <a:ext cx="1513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900" spc="-1" strike="noStrike">
                  <a:solidFill>
                    <a:srgbClr val="000000"/>
                  </a:solidFill>
                  <a:latin typeface="Times New Roman"/>
                </a:rPr>
                <a:t>Tehnicko uporedjenje sa proizvodima konkurentskih firmi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Line 9"/>
            <p:cNvSpPr/>
            <p:nvPr/>
          </p:nvSpPr>
          <p:spPr>
            <a:xfrm flipH="1" flipV="1">
              <a:off x="4406760" y="5271840"/>
              <a:ext cx="50328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2" name="Rectangle 10"/>
          <p:cNvSpPr/>
          <p:nvPr/>
        </p:nvSpPr>
        <p:spPr>
          <a:xfrm>
            <a:off x="539640" y="5950080"/>
            <a:ext cx="828036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Kuće kvaliteta predstavljaju matrice koje se formiraju tako da u svakoj fazi imaju isti</a:t>
            </a: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osnovni izgled. Na ulazu u "kuću kvaliteta", u l</a:t>
            </a: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ij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voj koloni, uv</a:t>
            </a: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ij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k je pitanje: "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ŠTA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</a:t>
            </a: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zaht</a:t>
            </a: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ij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va?", a na izlazu iz "kuće kvaliteta" uvek je odgovor: "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KAKO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spuniti</a:t>
            </a: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zaht</a:t>
            </a: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ve?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4300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ffff"/>
                </a:solidFill>
                <a:latin typeface="Times New Roman"/>
              </a:rPr>
              <a:t>Izgled “kuće kvaliteta”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5" name="Group 4"/>
          <p:cNvGrpSpPr/>
          <p:nvPr/>
        </p:nvGrpSpPr>
        <p:grpSpPr>
          <a:xfrm>
            <a:off x="1692360" y="1268280"/>
            <a:ext cx="5832360" cy="5329440"/>
            <a:chOff x="1692360" y="1268280"/>
            <a:chExt cx="5832360" cy="5329440"/>
          </a:xfrm>
        </p:grpSpPr>
        <p:grpSp>
          <p:nvGrpSpPr>
            <p:cNvPr id="326" name="Group 2"/>
            <p:cNvGrpSpPr/>
            <p:nvPr/>
          </p:nvGrpSpPr>
          <p:grpSpPr>
            <a:xfrm>
              <a:off x="1692360" y="2948040"/>
              <a:ext cx="936720" cy="2779560"/>
              <a:chOff x="1692360" y="2948040"/>
              <a:chExt cx="936720" cy="2779560"/>
            </a:xfrm>
          </p:grpSpPr>
          <p:sp>
            <p:nvSpPr>
              <p:cNvPr id="327" name="Rectangle 3"/>
              <p:cNvSpPr/>
              <p:nvPr/>
            </p:nvSpPr>
            <p:spPr>
              <a:xfrm>
                <a:off x="1692360" y="2948040"/>
                <a:ext cx="936720" cy="277956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Text Box 4"/>
              <p:cNvSpPr/>
              <p:nvPr/>
            </p:nvSpPr>
            <p:spPr>
              <a:xfrm rot="16200000">
                <a:off x="860760" y="4125960"/>
                <a:ext cx="254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1400" spc="-1" strike="noStrike">
                    <a:solidFill>
                      <a:srgbClr val="ffffff"/>
                    </a:solidFill>
                    <a:latin typeface="Arial"/>
                  </a:rPr>
                  <a:t>1. ZAHTJEVI KUPACA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Group 5"/>
            <p:cNvGrpSpPr/>
            <p:nvPr/>
          </p:nvGrpSpPr>
          <p:grpSpPr>
            <a:xfrm>
              <a:off x="2916360" y="2948040"/>
              <a:ext cx="3384360" cy="2779560"/>
              <a:chOff x="2916360" y="2948040"/>
              <a:chExt cx="3384360" cy="2779560"/>
            </a:xfrm>
          </p:grpSpPr>
          <p:sp>
            <p:nvSpPr>
              <p:cNvPr id="330" name="Rectangle 6"/>
              <p:cNvSpPr/>
              <p:nvPr/>
            </p:nvSpPr>
            <p:spPr>
              <a:xfrm>
                <a:off x="2916360" y="2948040"/>
                <a:ext cx="3384360" cy="2779560"/>
              </a:xfrm>
              <a:prstGeom prst="rect">
                <a:avLst/>
              </a:prstGeom>
              <a:solidFill>
                <a:srgbClr val="cc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Text Box 7"/>
              <p:cNvSpPr/>
              <p:nvPr/>
            </p:nvSpPr>
            <p:spPr>
              <a:xfrm>
                <a:off x="3563640" y="3875040"/>
                <a:ext cx="2231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1400" spc="-1" strike="noStrike">
                    <a:solidFill>
                      <a:srgbClr val="ffffff"/>
                    </a:solidFill>
                    <a:latin typeface="Arial"/>
                  </a:rPr>
                  <a:t>4. MEĐUODNOS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32" name="Group 8"/>
            <p:cNvGrpSpPr/>
            <p:nvPr/>
          </p:nvGrpSpPr>
          <p:grpSpPr>
            <a:xfrm>
              <a:off x="6588000" y="2948040"/>
              <a:ext cx="936720" cy="2779560"/>
              <a:chOff x="6588000" y="2948040"/>
              <a:chExt cx="936720" cy="2779560"/>
            </a:xfrm>
          </p:grpSpPr>
          <p:sp>
            <p:nvSpPr>
              <p:cNvPr id="333" name="Rectangle 9"/>
              <p:cNvSpPr/>
              <p:nvPr/>
            </p:nvSpPr>
            <p:spPr>
              <a:xfrm>
                <a:off x="6588000" y="2948040"/>
                <a:ext cx="936720" cy="2779560"/>
              </a:xfrm>
              <a:prstGeom prst="rect">
                <a:avLst/>
              </a:prstGeom>
              <a:solidFill>
                <a:srgbClr val="00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Text Box 10"/>
              <p:cNvSpPr/>
              <p:nvPr/>
            </p:nvSpPr>
            <p:spPr>
              <a:xfrm rot="16200000">
                <a:off x="5756040" y="4184280"/>
                <a:ext cx="2548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1400" spc="-1" strike="noStrike">
                    <a:solidFill>
                      <a:srgbClr val="ffffff"/>
                    </a:solidFill>
                    <a:latin typeface="Arial"/>
                  </a:rPr>
                  <a:t>2. MATRICA PLANIRANJA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Group 11"/>
            <p:cNvGrpSpPr/>
            <p:nvPr/>
          </p:nvGrpSpPr>
          <p:grpSpPr>
            <a:xfrm>
              <a:off x="2916360" y="2133720"/>
              <a:ext cx="3384360" cy="693720"/>
              <a:chOff x="2916360" y="2133720"/>
              <a:chExt cx="3384360" cy="693720"/>
            </a:xfrm>
          </p:grpSpPr>
          <p:sp>
            <p:nvSpPr>
              <p:cNvPr id="336" name="Rectangle 12"/>
              <p:cNvSpPr/>
              <p:nvPr/>
            </p:nvSpPr>
            <p:spPr>
              <a:xfrm>
                <a:off x="2916360" y="2133720"/>
                <a:ext cx="3384360" cy="69372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Text Box 13"/>
              <p:cNvSpPr/>
              <p:nvPr/>
            </p:nvSpPr>
            <p:spPr>
              <a:xfrm>
                <a:off x="3348000" y="2307240"/>
                <a:ext cx="27363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1400" spc="-1" strike="noStrike">
                    <a:solidFill>
                      <a:srgbClr val="ffffff"/>
                    </a:solidFill>
                    <a:latin typeface="Arial"/>
                  </a:rPr>
                  <a:t>3. TEHNIČKE KARAKTERISTIK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8" name="AutoShape 15"/>
            <p:cNvSpPr/>
            <p:nvPr/>
          </p:nvSpPr>
          <p:spPr>
            <a:xfrm>
              <a:off x="2916360" y="1268280"/>
              <a:ext cx="3457440" cy="789120"/>
            </a:xfrm>
            <a:prstGeom prst="triangle">
              <a:avLst>
                <a:gd name="adj" fmla="val 50000"/>
              </a:avLst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Text Box 16"/>
            <p:cNvSpPr/>
            <p:nvPr/>
          </p:nvSpPr>
          <p:spPr>
            <a:xfrm>
              <a:off x="3419640" y="1484280"/>
              <a:ext cx="2592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400" spc="-1" strike="noStrike">
                  <a:solidFill>
                    <a:srgbClr val="ffffff"/>
                  </a:solidFill>
                  <a:latin typeface="Arial"/>
                </a:rPr>
                <a:t>5. KORELACIONA MATRICA (KROV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40" name="Group 17"/>
            <p:cNvGrpSpPr/>
            <p:nvPr/>
          </p:nvGrpSpPr>
          <p:grpSpPr>
            <a:xfrm>
              <a:off x="2916360" y="5843520"/>
              <a:ext cx="3384360" cy="754200"/>
              <a:chOff x="2916360" y="5843520"/>
              <a:chExt cx="3384360" cy="754200"/>
            </a:xfrm>
          </p:grpSpPr>
          <p:sp>
            <p:nvSpPr>
              <p:cNvPr id="341" name="Rectangle 18"/>
              <p:cNvSpPr/>
              <p:nvPr/>
            </p:nvSpPr>
            <p:spPr>
              <a:xfrm>
                <a:off x="2916360" y="5843520"/>
                <a:ext cx="3384360" cy="75420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Text Box 19"/>
              <p:cNvSpPr/>
              <p:nvPr/>
            </p:nvSpPr>
            <p:spPr>
              <a:xfrm>
                <a:off x="3203280" y="6077160"/>
                <a:ext cx="2952360" cy="307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r-HR" sz="1400" spc="-1" strike="noStrike">
                    <a:solidFill>
                      <a:srgbClr val="ffffff"/>
                    </a:solidFill>
                    <a:latin typeface="Arial"/>
                  </a:rPr>
                  <a:t>6. CILJNE VRIJEDNOST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116000" y="404640"/>
            <a:ext cx="7772400" cy="6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ffff"/>
                </a:solidFill>
                <a:latin typeface="Times New Roman"/>
              </a:rPr>
              <a:t>Postupak izrade QFD analize</a:t>
            </a:r>
            <a:endParaRPr b="0" lang="en-US" sz="3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4000" y="1125000"/>
            <a:ext cx="82580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Times New Roman"/>
              </a:rPr>
              <a:t>Formiranje multifunkcionalnog tima</a:t>
            </a: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 stručnjaka koji učestvuju u razvoju proizvoda kroz različite procese (marketing, razvoj, projektovanje, nabavka, izvođenje/proizvodnja, obezbeđenje kvaliteta itd.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Times New Roman"/>
              </a:rPr>
              <a:t>Faza 1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Utvrđivanje značajnih karakteristika proizvo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92000" indent="-33948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Orijentacija tima prema procesu i ciljevima. Upoznavanje članova tima sa podacima potreba i kupca (glas kupca) koji predstavljaju lijevu (1) i desnu stranu (6) redova kuće kvalite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244880" indent="-3394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imes New Roman"/>
              </a:rPr>
              <a:t>Utvrđivanje zahtjeva kupac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244880" indent="-3394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imes New Roman"/>
              </a:rPr>
              <a:t>Rangiranje utvrđenih zahtjeva prema važnost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92000" indent="-33948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Kreiranje karakteristika proizvoda sa mjerljivim performansama koje se unose na kolone (2) na vrhu matrice – timski rad (</a:t>
            </a:r>
            <a:r>
              <a:rPr b="0" lang="hr-HR" sz="1600" spc="-1" strike="noStrike">
                <a:solidFill>
                  <a:srgbClr val="ffffff"/>
                </a:solidFill>
                <a:latin typeface="Times New Roman"/>
              </a:rPr>
              <a:t>Utvrđivanje dizajnerskih i tehničkih rješenj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92000" indent="-33948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Povezivanje performansi proizvoda sa potrebama kupca (glasa kupca sa glasom kompanije). Međusobne veze se ocjenjuju: 4 - jake veze, 3 - srednje veze, 2 - slabe veze, i 1 - nema veza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92000" indent="-33948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Utvrđivanje međusobnih odnosa (3) između različitih performansi proizvoda u kući kvaliteta (krov kvaliteta), na osnovu prethodno utvrđenih veza. Ocjene veza: 4 - jako pozitivni, 3 - pozitivni, 2 - negativni, i 1 - jako negativni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92000" indent="-33948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Prioritizacija rešenja (</a:t>
            </a:r>
            <a:r>
              <a:rPr b="0" lang="hr-HR" sz="1600" spc="-1" strike="noStrike">
                <a:solidFill>
                  <a:srgbClr val="ffffff"/>
                </a:solidFill>
                <a:latin typeface="Times New Roman"/>
              </a:rPr>
              <a:t>Rangiranje najvažnijih dizajnerskih i tehničkih rješenja)</a:t>
            </a: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 - završna faza u QFD procesu uključuje izradu matričnih kalkulacija, identifikaciju najviših prioriteta, razvoj specifičnih karakteristika, rešenja, procesa i programa za njihovo unapređenje 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Times New Roman"/>
              </a:rPr>
              <a:t>Faza 2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Utvrđivanje kritičnih d</a:t>
            </a:r>
            <a:r>
              <a:rPr b="1" lang="sr-Latn-CS" sz="16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elova proizvo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Times New Roman"/>
              </a:rPr>
              <a:t>Faza 3.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Utvrđivanje kritičnih parametara proces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Times New Roman"/>
              </a:rPr>
              <a:t>Faza 4.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Utvrđivanje postupak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42560" y="475920"/>
            <a:ext cx="7704360" cy="5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ffff"/>
                </a:solidFill>
                <a:latin typeface="Times New Roman"/>
              </a:rPr>
              <a:t>Faza 1 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Utvrđivanje značajnih karakteristika proizvoda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346" name="Picture 6" descr=""/>
          <p:cNvPicPr/>
          <p:nvPr/>
        </p:nvPicPr>
        <p:blipFill>
          <a:blip r:embed="rId1"/>
          <a:stretch/>
        </p:blipFill>
        <p:spPr>
          <a:xfrm>
            <a:off x="3059280" y="1052640"/>
            <a:ext cx="432720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Primjer primjene QFD analize u projektovanju računarske sale na univerzitetu</a:t>
            </a:r>
            <a:br>
              <a:rPr sz="2400"/>
            </a:br>
            <a:r>
              <a:rPr b="0" lang="hr-HR" sz="1800" spc="-1" strike="noStrike">
                <a:solidFill>
                  <a:srgbClr val="ffffff"/>
                </a:solidFill>
                <a:latin typeface="Times New Roman"/>
              </a:rPr>
              <a:t>Utvrđivanje zahtjeva korisnika, njihovo rangiranje i identifikacija karakteristika proizvoda</a:t>
            </a:r>
            <a:endParaRPr b="0" lang="en-US" sz="18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348" name="Picture 7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5175000" cy="4086360"/>
          </a:xfrm>
          <a:prstGeom prst="rect">
            <a:avLst/>
          </a:prstGeom>
          <a:ln w="0">
            <a:noFill/>
          </a:ln>
        </p:spPr>
      </p:pic>
      <p:grpSp>
        <p:nvGrpSpPr>
          <p:cNvPr id="349" name="Group 33"/>
          <p:cNvGrpSpPr/>
          <p:nvPr/>
        </p:nvGrpSpPr>
        <p:grpSpPr>
          <a:xfrm>
            <a:off x="3564000" y="4581360"/>
            <a:ext cx="4895280" cy="2276280"/>
            <a:chOff x="3564000" y="4581360"/>
            <a:chExt cx="4895280" cy="2276280"/>
          </a:xfrm>
        </p:grpSpPr>
        <p:pic>
          <p:nvPicPr>
            <p:cNvPr id="350" name="Picture 30" descr=""/>
            <p:cNvPicPr/>
            <p:nvPr/>
          </p:nvPicPr>
          <p:blipFill>
            <a:blip r:embed="rId2"/>
            <a:stretch/>
          </p:blipFill>
          <p:spPr>
            <a:xfrm>
              <a:off x="3564000" y="4598280"/>
              <a:ext cx="4895280" cy="225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Rectangle 32"/>
            <p:cNvSpPr/>
            <p:nvPr/>
          </p:nvSpPr>
          <p:spPr>
            <a:xfrm>
              <a:off x="6790680" y="4581360"/>
              <a:ext cx="1666440" cy="48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ffff"/>
                </a:solidFill>
                <a:latin typeface="Times New Roman"/>
              </a:rPr>
              <a:t>Kontrolne liste (cheklists)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170000" y="1945800"/>
            <a:ext cx="7772400" cy="465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Kontrolne liste (cheklsits) </a:t>
            </a:r>
            <a:r>
              <a:rPr b="0" lang="sr-Latn-ME" sz="1800" spc="-1" strike="noStrike">
                <a:solidFill>
                  <a:srgbClr val="ffffff"/>
                </a:solidFill>
                <a:latin typeface="Times New Roman"/>
              </a:rPr>
              <a:t>= obrasci za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za prikupljanje podataka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800" spc="-1" strike="noStrike">
                <a:solidFill>
                  <a:srgbClr val="ffffff"/>
                </a:solidFill>
                <a:latin typeface="Times New Roman"/>
              </a:rPr>
              <a:t>Postupak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800" spc="-1" strike="noStrike">
                <a:solidFill>
                  <a:srgbClr val="ffffff"/>
                </a:solidFill>
                <a:latin typeface="Times New Roman"/>
              </a:rPr>
              <a:t>Utvrđivanje cilja prikupljanja podatak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800" spc="-1" strike="noStrike">
                <a:solidFill>
                  <a:srgbClr val="ffffff"/>
                </a:solidFill>
                <a:latin typeface="Times New Roman"/>
              </a:rPr>
              <a:t>Identifikovanje potrebnih podatak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800" spc="-1" strike="noStrike">
                <a:solidFill>
                  <a:srgbClr val="ffffff"/>
                </a:solidFill>
                <a:latin typeface="Times New Roman"/>
              </a:rPr>
              <a:t>Određivanje načina, perioda i mjesta prikupljanj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800" spc="-1" strike="noStrike">
                <a:solidFill>
                  <a:srgbClr val="ffffff"/>
                </a:solidFill>
                <a:latin typeface="Times New Roman"/>
              </a:rPr>
              <a:t>Izrada obras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800" spc="-1" strike="noStrike">
                <a:solidFill>
                  <a:srgbClr val="ffffff"/>
                </a:solidFill>
                <a:latin typeface="Times New Roman"/>
              </a:rPr>
              <a:t>Provjera obrasca prikupljanjem i zapisivanjem nekih podatak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800" spc="-1" strike="noStrike">
                <a:solidFill>
                  <a:srgbClr val="ffffff"/>
                </a:solidFill>
                <a:latin typeface="Times New Roman"/>
              </a:rPr>
              <a:t>Preispitivanje i revidiranje obrasca ako je potrebn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Primjer primjene QFD analize u projektovanju dječijih jaslica</a:t>
            </a:r>
            <a:br>
              <a:rPr sz="2400"/>
            </a:br>
            <a:r>
              <a:rPr b="0" lang="hr-HR" sz="1800" spc="-1" strike="noStrike">
                <a:solidFill>
                  <a:srgbClr val="ffffff"/>
                </a:solidFill>
                <a:latin typeface="Times New Roman"/>
              </a:rPr>
              <a:t>Utvrđivanje zahtjeva korisnika, njihovo rangiranje i identifikacija karakteristika proizvoda </a:t>
            </a:r>
            <a:endParaRPr b="0" lang="en-US" sz="18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353" name="Picture 6" descr=""/>
          <p:cNvPicPr/>
          <p:nvPr/>
        </p:nvPicPr>
        <p:blipFill>
          <a:blip r:embed="rId1"/>
          <a:stretch/>
        </p:blipFill>
        <p:spPr>
          <a:xfrm>
            <a:off x="1187280" y="1946160"/>
            <a:ext cx="6909120" cy="46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Primjer primjene QFD analize u projektovanju dječijih jaslica</a:t>
            </a:r>
            <a:br>
              <a:rPr sz="2400"/>
            </a:b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Matrica međuodnosa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355" name="Picture 6" descr=""/>
          <p:cNvPicPr/>
          <p:nvPr/>
        </p:nvPicPr>
        <p:blipFill>
          <a:blip r:embed="rId1"/>
          <a:stretch/>
        </p:blipFill>
        <p:spPr>
          <a:xfrm>
            <a:off x="2124000" y="1897200"/>
            <a:ext cx="587232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Primjer primjene QFD analize u projektovanju dječijih jaslica</a:t>
            </a:r>
            <a:br>
              <a:rPr sz="2400"/>
            </a:b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Tehnička matrica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357" name="Picture 6" descr=""/>
          <p:cNvPicPr/>
          <p:nvPr/>
        </p:nvPicPr>
        <p:blipFill>
          <a:blip r:embed="rId1"/>
          <a:stretch/>
        </p:blipFill>
        <p:spPr>
          <a:xfrm>
            <a:off x="1619280" y="1946160"/>
            <a:ext cx="6012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Primjer primjene QFD analize u projektovanju dječijih jaslica</a:t>
            </a:r>
            <a:br>
              <a:rPr sz="2400"/>
            </a:b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Krov kuće kvaliteta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359" name="Picture 5" descr=""/>
          <p:cNvPicPr/>
          <p:nvPr/>
        </p:nvPicPr>
        <p:blipFill>
          <a:blip r:embed="rId1"/>
          <a:stretch/>
        </p:blipFill>
        <p:spPr>
          <a:xfrm>
            <a:off x="2124000" y="1773360"/>
            <a:ext cx="5977080" cy="49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43000" y="33336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400" spc="-1" strike="noStrike">
                <a:solidFill>
                  <a:srgbClr val="00ffff"/>
                </a:solidFill>
                <a:latin typeface="Arial"/>
                <a:ea typeface="Arial"/>
              </a:rPr>
              <a:t>Koncept šest sigma (Six sigma, 6</a:t>
            </a:r>
            <a:r>
              <a:rPr b="0" lang="el-GR" sz="2400" spc="-1" strike="noStrike">
                <a:solidFill>
                  <a:srgbClr val="00ffff"/>
                </a:solidFill>
                <a:latin typeface="Arial"/>
                <a:ea typeface="Arial"/>
              </a:rPr>
              <a:t>σ</a:t>
            </a:r>
            <a:r>
              <a:rPr b="0" lang="sr-Latn-ME" sz="2400" spc="-1" strike="noStrike">
                <a:solidFill>
                  <a:srgbClr val="00ffff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1042560" y="1125360"/>
            <a:ext cx="7899480" cy="49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326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Šest sigma je unapređenje poslovanja zasnovano na pronalaženju i eliminisanju grešaka i uzroka pojave grešaka ili defekata u procesima, usredsređivanjem pažnje na izlazne parametre, </a:t>
            </a:r>
            <a:r>
              <a:rPr b="0" lang="sr-Latn-ME" sz="1300" spc="-1" strike="noStrike">
                <a:solidFill>
                  <a:srgbClr val="ffffff"/>
                </a:solidFill>
                <a:latin typeface="Arial"/>
                <a:ea typeface="Arial"/>
              </a:rPr>
              <a:t>kritično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važne za korisnika.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Šest sigma je strategijski prilaz za sve procese, proizvode i kompanije.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300" spc="-1" strike="noStrike">
                <a:solidFill>
                  <a:srgbClr val="ffffff"/>
                </a:solidFill>
                <a:latin typeface="Arial"/>
                <a:ea typeface="Arial"/>
              </a:rPr>
              <a:t>Six Sigma koncept je razvijen kod Moorole sredinom 1980-tih godina za analizu njihovih procesa proizvodnje i eliminaciju defekata.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Glavna područja na koja se usredsređuje šest sigma su: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326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poboljšanje zadovoljstva korisnika;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326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smanjenje ciklusa vremena 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326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manjenje grešaka proizvoda.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Statistički gledano "Šest sigma" predstavlja iznos varijacije prikazane u procesu koji je povezan sa zahtevima korisnika ili njihovim specifikacijama . Kada proces deluje na nivou "Šest sigma", varijacija je tako mala da rezultira tačnošću od 99,9997 % ili pojavom samo 3,4 greške na milion mogućnosti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"Šest sigma" metodologija je fokusirana na jedan cilj: osigurati da su proizvodi i usluge blizu savršenstva. Da bi se to postiglo koriste se stroge statističke tehnike i metodologije, bazirane na merljivim podacima, kojima je cilj kontrola kvalita.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Za poboljšanje organizacijskog nivoa "Šest sigma" procesa potrebno je smanjiti količinu varijacija koje se pojavljuju. Postojanje manjeg broja varijacija donosi sledeće prednosti: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326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bolja predvidivost procesa,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326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eliminacije grešaka na najmanjem mogućem nivou,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326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smanjenje vremena proizvodnje,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326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smanjenje troškova proizvodnje,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326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poboljšanje produktivnosti,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43000" y="33336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400" spc="-1" strike="noStrike">
                <a:solidFill>
                  <a:srgbClr val="00ffff"/>
                </a:solidFill>
                <a:latin typeface="Arial"/>
                <a:ea typeface="Arial"/>
              </a:rPr>
              <a:t>Metodologija primjene šest sigma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042560" y="1125360"/>
            <a:ext cx="7899480" cy="49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vi glavni problemi u okviru šest sigme rešavaju se pomoću metodologije DMAIC (Define - definisanje ili određivanje, Measure - merenje, Analyze - analiziranje, Improve - poboljšanje ili unapređenje i Controle - kontrola ili upravljanje). Ovom metodom mogu se naučiti tehnike: kako prikupiti podatke, koliko ih koristiti i koliko ih često prebrojiti i kako biti fleksibilan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4" name="Picture 3" descr=""/>
          <p:cNvPicPr/>
          <p:nvPr/>
        </p:nvPicPr>
        <p:blipFill>
          <a:blip r:embed="rId1"/>
          <a:stretch/>
        </p:blipFill>
        <p:spPr>
          <a:xfrm>
            <a:off x="2340000" y="2781360"/>
            <a:ext cx="4896000" cy="39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3000" y="476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ffff"/>
                </a:solidFill>
                <a:latin typeface="Times New Roman"/>
              </a:rPr>
              <a:t>Dijagram uzrok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-</a:t>
            </a:r>
            <a:r>
              <a:rPr b="1" lang="hr-HR" sz="3200" spc="-1" strike="noStrike">
                <a:solidFill>
                  <a:srgbClr val="00ffff"/>
                </a:solidFill>
                <a:latin typeface="Times New Roman"/>
              </a:rPr>
              <a:t> posljedica (Ishikawa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 dijagram, d</a:t>
            </a:r>
            <a:r>
              <a:rPr b="1" lang="hr-HR" sz="3200" spc="-1" strike="noStrike">
                <a:solidFill>
                  <a:srgbClr val="00ffff"/>
                </a:solidFill>
                <a:latin typeface="Times New Roman"/>
              </a:rPr>
              <a:t>ijagram riblja kost)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83311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lnSpc>
                <a:spcPct val="8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Principi izrade: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839880" indent="-4478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Selekcija: definisanje stanja sistema (posljedica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839880" indent="-4478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Razvrstavanje: gruupisanje i rangiranje uzroka (uticajnih faktora na stanje sistema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839880" indent="-4478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Povezivanje: logičko povezivanje uzroka (uticajnih faktora) i posljedica (stanja sistema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>
              <a:lnSpc>
                <a:spcPct val="8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Primjena: sistemstko istraživanje i identifikaciju glavnih uzroka određenog problem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>
              <a:lnSpc>
                <a:spcPct val="8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Osnovni koraci primjene: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839880" indent="-4478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Definisanje (određivanje) problema (ovo može biti i cilj, ili željeno stanje sistema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839880" indent="-4478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Identifikovanje (određivanje) glavnih uzroka (kategorija=familija uzroka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839880" indent="-4478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Određivanje poduzroka, najdalje do trećeg nivo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>
              <a:lnSpc>
                <a:spcPct val="8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500" spc="-1" strike="noStrike">
                <a:solidFill>
                  <a:srgbClr val="ffffff"/>
                </a:solidFill>
                <a:latin typeface="Times New Roman"/>
              </a:rPr>
              <a:t>Postupak primjene: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839880" indent="-4478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Jasno definisati posljedice, odnosno problem, odnosno željeno sstanje sistema)- upisuje se na desnoj strani i od njega se vuče ulijevo horizontalna linija („kičma” dijagrama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839880" indent="-4478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Identifikovati i razvrstati moguće uzroke po kategorijama (ljudi, okruženje, oprema, metode...)- predvidjeti od 3 do 8 kategorija uzrok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839880" indent="-4478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Nacrtati "riblju kost" koristeći odgovarajuće kategorije (familije) uzroka, npr. ljudi, okruženje, oprema, metode..., spajajući ih sa kičmom dijagram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839880" indent="-4478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Razmotriti podfamilije uzroka (koristeći na primjer metodu Brainstorming) i zabilježiti ih na dijagramu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839880" indent="-4478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Postupak širenja - grananja - povećavati nivo detaljnosti za svaki od uzroka na osnovnoj strukturi, spajajući ih horizontalnim linijama sa glavnom sstrelicom grupe uzroka (ne ići više od 3 nivoa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839880" indent="-4478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Analiza dijagrama - analiza svih uzroka, utvrđivanje nivoa njihovog uticaja (dodjeljivanjem težinskih koeficijenata najprijena glavne grane, a zatim na niže nivoe i preračun relativnih težina koje odgovaraju pojedinačnim faktorima)) i predlaganje korektivnih mjera i redosljeda primjene za njihovo otklanjanje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ffff"/>
                </a:solidFill>
                <a:latin typeface="Times New Roman"/>
              </a:rPr>
              <a:t>Primjer dijagrama sa 5 grupa uzrok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64" name="Picture 6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84872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PRIMJER DIJAGRAMA ZA ANALIZU PRETJERANE POTROŠNJE GORIVA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66" name="Picture 6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7428240" cy="45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ffff"/>
                </a:solidFill>
                <a:latin typeface="Times New Roman"/>
              </a:rPr>
              <a:t>Primjer primjene isikava dijagrama za upravljanje kvalitetom u „projektuj i izgradi“ projektima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68" name="Picture 6" descr=""/>
          <p:cNvPicPr/>
          <p:nvPr/>
        </p:nvPicPr>
        <p:blipFill>
          <a:blip r:embed="rId1"/>
          <a:stretch/>
        </p:blipFill>
        <p:spPr>
          <a:xfrm>
            <a:off x="1116000" y="1782720"/>
            <a:ext cx="7128000" cy="49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72400" cy="80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ffff"/>
                </a:solidFill>
                <a:latin typeface="Times New Roman"/>
              </a:rPr>
              <a:t>Kontrolne karte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00000" y="1483920"/>
            <a:ext cx="80424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5680" indent="-2656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imes New Roman"/>
              </a:rPr>
              <a:t>Kontrolne karte: grafici u kojima se prikazuje ponašanje procesa u vremenu i služe za ocenjivanje da li se proces odvija na zadovoljavajući nač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5680" indent="-2656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imes New Roman"/>
              </a:rPr>
              <a:t>Razvio je Shewhart 1920. godine da bi razlikovao slučajne od sistemskih varijacija*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57720" indent="-26568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imes New Roman"/>
              </a:rPr>
              <a:t>Uobičajeni (slučajni) uzroci varijacija: metode, materijali, mašine, ljudi i sredina ili osvetljenje u fabrici,  klasa potrebnog  sirovog materijala,  obučenost radnika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57720" indent="-26568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imes New Roman"/>
              </a:rPr>
              <a:t>Posebni ili specifični (sistemske varijacije) uzroci varijacija: radnik slučajno napravi grešku na kontrolnoj tabli, radnik se razboli na poslu i nastavi da radi, mašina se rašteluje, nepažljivi dobavljač isporuči seriju materijala lošeg kvaliteta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5680" indent="-2656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imes New Roman"/>
              </a:rPr>
              <a:t>Primjena -svakodnevno praćenje parametara procesa i za signalizaciju kada proces pređe utvrđene granice – detektovanje sistema koji su van kontro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5680" indent="-2656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imes New Roman"/>
              </a:rPr>
              <a:t>Slučajevi korišćenja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57720" indent="-26568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imes New Roman"/>
              </a:rPr>
              <a:t>Dijagnoza: ocenjivanje stabilnosti procesa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57720" indent="-26568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imes New Roman"/>
              </a:rPr>
              <a:t>Kontrola: odrediti kada je proces potrebno korigovati (podesiti) ili kada ga je, u postojećem obliku, potrebno napustiti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57720" indent="-26568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imes New Roman"/>
              </a:rPr>
              <a:t>Potvrda: potvrditi da li je, nakon izvršenih zahvata - korekcija, došlo do poboljšanja procesa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65680" indent="-2656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ostupak</a:t>
            </a: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57720" indent="-26568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Određivanje središnje linije (na osnovu aritmetičkih sredina uzoraka (svaki uzorak obuhvata po nekoliko jedinic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57720" indent="-26568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Izračunavanje kontrolnih granica (na osnovu zakona vjerovatnoć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57720" indent="-26568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Crtanje kontrolne karte (na osnovu prikupljenih statističkih podataka tokom vremen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57720" indent="-26568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Analiza kontrolne kar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7T12:15:49Z</dcterms:created>
  <dc:creator>Gradjevinski fakultet Podgorica</dc:creator>
  <dc:description/>
  <dc:language>en-US</dc:language>
  <cp:lastModifiedBy>Toshiba</cp:lastModifiedBy>
  <dcterms:modified xsi:type="dcterms:W3CDTF">2019-05-12T20:01:50Z</dcterms:modified>
  <cp:revision>458</cp:revision>
  <dc:subject/>
  <dc:title>Alati i metode za upravljanje kvalitetom</dc:title>
</cp:coreProperties>
</file>