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6.wmf" ContentType="image/x-wmf"/>
  <Override PartName="/ppt/media/image29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30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media/image21.wmf" ContentType="image/x-wmf"/>
  <Override PartName="/ppt/media/image22.wmf" ContentType="image/x-wmf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3A7B-9478-4EA1-A40B-850E7390E9B7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hyperlink" Target="http://www.cqm.rs/fq2006/pdf/A/19%20-%20Lazic%20M..pdf" TargetMode="External"/><Relationship Id="rId2" Type="http://schemas.openxmlformats.org/officeDocument/2006/relationships/slide" Target="../slides/slide31.xml"/><Relationship Id="rId3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hyperlink" Target="http://www.cqm.rs/2011/FQ2011/pdf/38/35.pdf" TargetMode="External"/><Relationship Id="rId2" Type="http://schemas.openxmlformats.org/officeDocument/2006/relationships/slide" Target="../slides/slide34.xml"/><Relationship Id="rId3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Slaviša Moljević,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ENTIFIKACIJA I MAPIRANJE PROCESA- JEDAN POGLED IZ PRAK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estival kvaliteta, Kragujevac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ostupak identifikacije i uspostavljanja relacija izmedju dekomponovanja procesa naziva se mapiranje procesa. Iz prethodnog se može zaključiti da je to početna i vrlo »osetljiva aktivnost« od koje u mnogome zavisi uspeh dizajniranja procesa. To je razlog zbog čega je autor, koristeći teorijske postavke dekompozicije i analize procesa, ukazao na novi pristup mapiranju procesa kombinujući primenu SSA metode za krosfunkcijske i funkcijske procese i HIPO metodu za potfunkcijske procese i operacij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a proces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taje kao rezultat mapiranja procesa. To je grafički prikaz procesa sa prikazanim redosledom zadataka koristeći različite verzije sistema za opis procesa (na primer DTP-dijagram toka, AS2, IDEF i dr). Pri tome se pod mapiranjem podrazumeva aktivnost kreiranja detaljnog dijagrama toka odvijanja procesa sa prikazivanjem ulaza, zadataka i aktivnosti u odgovarajućem redosledu. Mapa procesa, kao rezultat mapiranja procesa, predstavlja model procesa, koji je jedan od fundamenat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Heleta, M.: Projektovanje menadžment sistema kvaliteta, Univerzitet Singidunum, Beograd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od definisanja mape procesa, prvo se identifikuju i mežusobno povežu poslovni procesi za realizaciju proizvoda, a zatim i procesi menadžmenta, procesi za podršku i procesi poboljša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voi procesa su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ljučni procesi, Makroprocesi, Procesi, Podprocesi i Aktivnosti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ovoj fazi potrebno je najpre identifikovati ključne i makroprocese. Ključni procesi zavise od delatnosti organizacij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postupku identifikacije procesa utvrđuje se i postojeće stanje procesa (snimanje proces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 svaki do identifikovanih procesa definišu se i procesi koji im pre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de, ulaze u proces, po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i i aktivnosti koje ih čine, ciljevi, resursi koji su neophodni za ostvarenje ciljeva, način merenja ostvarenja tih ciljeva, izlazi iz procesa i procesi koji im sle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Slaviša Moljević,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DENTIFIKACIJA I MAPIRANJE PROCESA- JEDAN POGLED IZ PRAK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Festival kvaliteta, Kragujevac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, Helta,  m, Cvetković, D.: Osnove inženjerstva i savremene metode u inženjerstvu, Univerzitet Singidunum, Beograd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yvor Vježbe F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izv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PRIKAZ PRIMENE UTVRĐIVANJA I MERENJA PERFORMANSI PROCE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Arial"/>
              </a:rPr>
              <a:t>U JEDNOJ GRAĐEVINSKOJ ORGANIZACIJ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Dr Petar Nikšić,dipl.inž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800" spc="-1" strike="noStrike">
                <a:solidFill>
                  <a:srgbClr val="000000"/>
                </a:solidFill>
                <a:latin typeface="Arial"/>
              </a:rPr>
              <a:t>Rezime: </a:t>
            </a:r>
            <a:r>
              <a:rPr b="0" i="1" lang="sr-Latn-CS" sz="800" spc="-1" strike="noStrike">
                <a:solidFill>
                  <a:srgbClr val="000000"/>
                </a:solidFill>
                <a:latin typeface="Arial"/>
              </a:rPr>
              <a:t>U radu je prikazan način uspostavljanja, dokumentovanja i primene procesa neophodnih za sistem menadžmenta kvalitetom po zahtevima standarda SRPS ISO 9001:2008 u jednoj građevinskoj organizaciji. Osnovne delatnosti organizacije su izgradnja hidrograđevinskih objekata (šifra delatnosti 45240), projektovanje građevinskih objekata (šifra delatnosti 74202) i inženjering (šifra delatnosti 74203). Procesi su podeljeni na: procese za aktivnosti menadžmenta, procese obezbeđenja resursa, procese realizacije proizvoda i procese merenja, analize i poboljšanja. Dokumentima sistema menadžmenta kvalitetom definisani su: način realizacije, praćenja i kontrole procesa, nosioci pojedinih aktivnosti, potrebni resursi, ulazna i izlazna dokumenta svakog procesa, kao i način analize prikupljenih podataka u cilju stalnog poboljšavanja procesa. </a:t>
            </a:r>
            <a:r>
              <a:rPr b="1" i="1" lang="sr-Latn-CS" sz="800" spc="-1" strike="noStrike">
                <a:solidFill>
                  <a:srgbClr val="000000"/>
                </a:solidFill>
                <a:latin typeface="Arial"/>
              </a:rPr>
              <a:t>Ključne reči: </a:t>
            </a:r>
            <a:r>
              <a:rPr b="0" i="1" lang="sr-Latn-CS" sz="800" spc="-1" strike="noStrike">
                <a:solidFill>
                  <a:srgbClr val="000000"/>
                </a:solidFill>
                <a:latin typeface="Arial"/>
              </a:rPr>
              <a:t>sistem menadžmenta kvalitetom, proces, performance procesa,poboljšavanj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 IDENTIFIKACIJA PROCE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im sertifikacije po standardu ISO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001:2008 obuhvata osnovne delatnost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zacije "GRADIS "u koju spadaju izgradnj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drograđevinskih objekata (šifra delatnost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240), projektovanje građevinskih objekata (šifr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atnosti 74202) i inženjering (šifra delatnost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4203)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zacija Gradis je organizovana 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va sektora i to tehničk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ktor i sektor opštih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jedničkih poslov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hnički sektor satoji se od sledećih službi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Nabavka i priprem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Operativa (izgradnja, mehanizacija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državanj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Projektovanje i inženje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snovnu opremu pomoću ko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ganizacija obavlja delatnost čin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Građevinska mehanizaci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Transportna sredst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Ostala oprem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 organizaciji je uspostavljen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kumentovani sistem menadžmenta kvalitetom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asnovan na procesnom pristupu. Procesi su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deljeni na: procese za aktivnosti menadžmenta,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e obezbeđenja resursa, procese realizaci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izvoda i procese merenja, analize i poboljšanja.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i za aktivnosti menadžmenta s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niranje i praćenje poslovanj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ravljanje finansijama,upravljanje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kumentacijom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ispitivanje sistema menadžment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valitetom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i obezbeđenja resursa s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ezbeđenje ljudskih resursa i bezbednost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avlje na ra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obezbeđenje i održavanje infrastrukture(mehanizacija, transport, oprema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i realizacije proizvoda su: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tvrđivanje zahteva kupaca i ugovaranj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bavk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niranje i realizacija izgradnje objekt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zrada tehničke dokumentacij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ženjer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i merenja, anlize i poboljšanja su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aćenje i merenje zadovoljstva korisnika i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ansi proces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aćenje i merenje karakteristika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izvod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e prover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mena korektivnih mer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primena preventivnih m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 Krivokapi, 2011, str. 2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646F-37C3-4CB5-AC89-55DF266218B9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qm.rs/fq2006/pdf/A/19%20-%20Lazic%20M.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8314-E3D1-4EFA-9123-59A9F746B435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qm.rs/2011/FQ2011/pdf/38/35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B117-278E-49E2-A334-8446D6449797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knj</a:t>
            </a:r>
            <a:r>
              <a:rPr b="0" lang="sr-Latn-ME" sz="1200" spc="-1" strike="noStrike">
                <a:solidFill>
                  <a:srgbClr val="000000"/>
                </a:solidFill>
                <a:latin typeface="Arial"/>
              </a:rPr>
              <a:t>zi prof. Krivokapica je greska, ista slika je data za oba indeksa, na slajdu je to ispravljeno naknad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D56E-0F32-47C0-B8E8-E5A09B0CBB7D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zvor:Slaviša Moljević,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DENTIFIKACIJA I MAPIRANJE PROCESA- JEDAN POGLED IZ PRAKS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Festival kvaliteta, Kragujevac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visno od nivoa i »ugla posmatranja« u organizaciji se procesi mogu komponovati na različite načine. Sigurno da top menadžeri prepoznaju i insistiraju na makroprocesorima (krosfunkcijskim), menadžeri na srednjem nivou su zainteresovani za funkcijske procese, a operativni menadžment na potprocese i eventualno operacije.Sa druge strane evidentna je različitost ciljeva i domena dekompozicije, što uslovljava velike razlike u pristupu dekompoziciji proce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da se posmatraju procesi u organizaciji kao celini, mora se poći od strategijskih ciljeva i identifikovati ključni/osnovni makroprocesi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osfunkcijsk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za koje je zadužen top menadžment. Drugi nivo dekompozicije su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kcijski proces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 identifikovanim taktičkim ciljevima za koje je zadužen menadžment srednjeg nivoa. Treći nivo dekompozicije se odnosi na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tfunkcije i operacij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za koje je odgovoran operativni menadžmen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ed ovog pristupa, kod nekih autora se koristi funkcionalni pristup, gde se pojedine poslovne funkcije (na primer nabavka) identifikuju sa procesom (u ovom slučaju sa procesom nabavke), a zatim se procedurama vrši povezivanje ovakvih procesa radi dobijanja krosfunkcijskih procesa (na primer projektovanje proizvoda, koje obuhvata proces marketinga, razvoja proizvoda, izrade i ispitivanja prototipa itd.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Katalog procesa—popis svih procesa različitih nivoa dekompozicije u jednoj organizaciji, sa opisom ulaza, izlaza, kriterijuma za ocjenu, nosilaca, odnosno vlasnika procesa i s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zvor: Dr Milenko Heleta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ktovanje menadžment sistema kvalitet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zitet Singidunum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587-C3B2-4BB5-97B9-1DB5739F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179-291F-4C6C-B9E2-6CFB867A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EC1-F30E-4FB1-9C9E-F836F1FA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5A8-9767-47F9-8070-A310834E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C4DB-FD4F-4E1B-AA12-ADE261CC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79B7-C792-485B-82D1-7DCADBDF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EEE2-6199-4193-925D-124EAF04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FB0F-F996-4E4D-B13D-ED616A80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2AF7-4701-4F1C-8EAD-5CE1EEEA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9F6C-74CD-4B07-987E-5CA1B2C6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28C2-22DD-49F5-A3F2-5A2A6009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DE75-72D1-4B7D-A30A-041927D4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1A46-925C-4ACD-ADCF-7A424A4B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B9EA-5038-4E69-A239-4E1B76B1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22B7-BA63-4AF8-B084-6DA7C0A7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FF2F-3D31-4C1D-ABB8-5C3ED7A0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D747-2B9F-4258-A5E0-71222047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9F2-6790-4829-9342-9BD8F9BF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FE2-8CA6-4228-A48C-28DE7114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3DA-1712-4B7C-86D4-F0E78129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A1C-25DB-4634-B082-B8CBC68C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EDC-A0AC-414E-A7F9-A5893CA9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8C5-EE42-4909-BE7B-77F408D2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70D-1A45-4279-9739-79C0D887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218960" y="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21/02/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62A6-DAE5-4F08-B664-2E358953559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56A2-EBE9-40AB-8B6D-0C2CCC6015C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hyperlink" Target="http://www.cqm.rs/2009/pdf/36/07.pd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ODREĐIVANJE I UPRAVLJANJE PROCESIMA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QMS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-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ffff"/>
                </a:solidFill>
                <a:latin typeface="Times New Roman"/>
              </a:rPr>
              <a:t>PROCESNI PRIST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00ffff"/>
                </a:solidFill>
                <a:latin typeface="Times New Roman"/>
              </a:rPr>
              <a:t>ILUSTRACIJA PODJELE PROCESA U ORGANIZACIJ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7404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ripadnost pojedinih vrsta procesa elementima modela QM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82580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Katalog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rcRect l="10141" t="25087" r="9391" b="10636"/>
          <a:stretch/>
        </p:blipFill>
        <p:spPr>
          <a:xfrm>
            <a:off x="1258920" y="1773360"/>
            <a:ext cx="72993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Klasične tehnike analize siste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HIPO (Hierarchical Input Process Output) *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BSP (Business System Plannin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ADT (Structured Analysis and Design Techniqu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oderne tehnik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SSA (Structured System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Analysi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JAD (Joint application Developme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OA (Objected Oriented Analysi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BPR (Business Process Reingineerin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ME" sz="1200" spc="-1" strike="noStrike">
                <a:solidFill>
                  <a:srgbClr val="ffffff"/>
                </a:solidFill>
                <a:latin typeface="Times New Roman"/>
              </a:rPr>
              <a:t>* više u knjizi Krivokapić 2011, str. 2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) </a:t>
            </a: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dentifikacija </a:t>
            </a: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procesa</a:t>
            </a:r>
            <a:r>
              <a:rPr b="1" lang="sr-Latn-ME" sz="3400" spc="-1" strike="noStrike">
                <a:solidFill>
                  <a:srgbClr val="00ffff"/>
                </a:solidFill>
                <a:latin typeface="Times New Roman"/>
              </a:rPr>
              <a:t> /3/</a:t>
            </a:r>
            <a:br>
              <a:rPr sz="3400"/>
            </a:br>
            <a:r>
              <a:rPr b="1" lang="sr-Latn-ME" sz="3400" spc="-1" strike="noStrike">
                <a:solidFill>
                  <a:srgbClr val="00ffff"/>
                </a:solidFill>
                <a:latin typeface="Times New Roman"/>
              </a:rPr>
              <a:t>Metode dekompozicije i analize procesa</a:t>
            </a:r>
            <a:endParaRPr b="0" lang="en-US" sz="3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) 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Redosljed i međusobno djelovanje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 proce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reža procesa –čine je međusobno povezani procesi, koji su povezani preko ulaza i izl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apiranje procesa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ostupak identifikacije i uspostavljanja relacija izme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đ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u dekomponova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nih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proces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apa procesa – model procesa 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rafički prikaz procesa sa prikazanim redosledom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 vezama, može biti i u obliku matrice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različiti oblici povezanosti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Organizaciona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Funkcional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Upravljač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Primjer mape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2195640" y="1197000"/>
            <a:ext cx="5230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ff"/>
                </a:solidFill>
                <a:latin typeface="Times New Roman"/>
              </a:rPr>
              <a:t>Primjer mape procesa-slučaj proizvodnje za poznatog kupc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PRIMJER MAPE PROCESA GRADJEVINSKOG PREDUZEĆ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1476360" y="1670040"/>
            <a:ext cx="76676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Primjer matričnog (tabelarnog) zapisa mape procesa (interakcije procesa)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rcRect l="12304" t="11537" r="8952" b="4464"/>
          <a:stretch/>
        </p:blipFill>
        <p:spPr>
          <a:xfrm>
            <a:off x="179280" y="2981160"/>
            <a:ext cx="4608720" cy="3687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2"/>
          <a:stretch/>
        </p:blipFill>
        <p:spPr>
          <a:xfrm>
            <a:off x="4398840" y="1752480"/>
            <a:ext cx="454500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2" name="Object 5"/>
          <p:cNvGraphicFramePr/>
          <p:nvPr/>
        </p:nvGraphicFramePr>
        <p:xfrm>
          <a:off x="611280" y="2365200"/>
          <a:ext cx="806112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65200"/>
                    <a:ext cx="806112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Organizaciona povezanos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Šta j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roces</a:t>
            </a: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 je skup međusobno povezanih ili djelujućih aktivnosti koji pretvara ulazne elemente u izlaz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PROCESI – AKTIVNOSTI - ZADACI (OPERACIJ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vrha procesa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prinosi realizaciji proizvoda prihvatljivih za naručio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Glavne karakteristike procesa su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krajnje tačke: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ulazi, izlazi, kupci i uslovi za odvijanje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transformacije: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fizičke, lokacijske i transakcione aktivnosti uz angažovanje resur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povratna sprega: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potrebe i očekivanja kupca, specifični ciljevi kupca, glas kupca, specifični ciljevi procesa i glas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ponovljivost pri istom ulaz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vlasnik i menadžer procesa</a:t>
            </a: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za procese kojima se upravl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Vlasnik – odgovoran za funkcionisanje procesa (po pravilu je rukovodilac funkcije u kojoj se obavlja najveći dio proces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enadžer je obavezan da operativno upravlja realizacijom ugovora, projekta ili proizvoda u okviru procesa (najčešće je vlasnik istovremeno i menadž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755640" y="1946160"/>
          <a:ext cx="815508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46160"/>
                    <a:ext cx="815508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Funkcionalna povezanost ulazno-izlaznim elementi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Object 6"/>
          <p:cNvGraphicFramePr/>
          <p:nvPr/>
        </p:nvGraphicFramePr>
        <p:xfrm>
          <a:off x="2268360" y="2565360"/>
          <a:ext cx="50752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565360"/>
                    <a:ext cx="50752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Funkcionalna povezanost zajedničkim ulaznim elementi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Object 5"/>
          <p:cNvGraphicFramePr/>
          <p:nvPr/>
        </p:nvGraphicFramePr>
        <p:xfrm>
          <a:off x="1781280" y="2525760"/>
          <a:ext cx="6549840" cy="29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2525760"/>
                    <a:ext cx="654984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ffff"/>
                </a:solidFill>
                <a:latin typeface="Times New Roman"/>
              </a:rPr>
              <a:t>Upravljačka povezanost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ffff"/>
                </a:solidFill>
                <a:latin typeface="Times New Roman"/>
              </a:rPr>
              <a:t>Dekompozicija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 rot="5400000">
            <a:off x="1526040" y="-508680"/>
            <a:ext cx="584028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c) Kriterijumi i metode  za efektivno upravljanje procesi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dentifikovanje kriterijuma za mjerenje performansi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Broj kriterijuma po proces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ffff"/>
                </a:solidFill>
                <a:latin typeface="Times New Roman"/>
              </a:rPr>
              <a:t>Primjer kriterijuma i karakteristika praćenja proizvodn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kapacitet proizvodne linije (u proizvedenim komadima, u šaržama, i sl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s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čno vr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me za proizvodnju jednog jediničnog proizv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cenat škarta (dalje može po vrstama škart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za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na, dorada i opravk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utrošeno vr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me za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na, dorada i opravk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s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čno vr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me čekanja na sl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deću operacij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me kretanja ljudi, materijala, proizv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cenat prekom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rnog procesiranja u tehnološkoj linij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neplanirani zastoj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utrošak energ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ponovnih kontrolisanja i ispitivanj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rimjeri praćenja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ffff"/>
                </a:solidFill>
                <a:latin typeface="Times New Roman"/>
              </a:rPr>
              <a:t>Primjeri praćenja procesa pružanja uslu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ukupan broj korisnika po sm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ni / dnevno / nedeljno / m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sečno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broj korisnika po uslužnom m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stu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posvećeno svakom korisniku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potrebno za pretraživanje podataka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čekanja na realizaciju usluge na uslužnom mest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ffff"/>
                </a:solidFill>
                <a:latin typeface="Times New Roman"/>
              </a:rPr>
              <a:t>Primjeri praćenja procesa proda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broj zaposlenih u prodaj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broj poslatih ponuda po zaposlen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odnos broja ponuda poslatih poštom,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e-mailom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, faks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potrebno da se sastavi ponu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potrebno za sastavljanje tenderske dokumentaci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pros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čno vr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eme komunikacije sa korisnic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broj ostvarenih ponuda po zaposleno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rimjeri praćenja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ffff"/>
                </a:solidFill>
                <a:latin typeface="Times New Roman"/>
              </a:rPr>
              <a:t>Primjeri praćenja procesa nabavk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odnos planirane i ukupne nabavk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s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čno vr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eme isporuke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zaposlenih u nabavci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nabavki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elektronskih nabavki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vraćenih nabavki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dobavljača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reklamacija čiji je uzrok nabavka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ffff"/>
                </a:solidFill>
                <a:latin typeface="Times New Roman"/>
              </a:rPr>
              <a:t>Primjeri praćenja procesa upravlja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korektivnih mera koje se ne ponavljaj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korektivnih mera koje nisu zatvorene u predviđenom vremenskom periodu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preventivnih mera koje su se kasnije pretvorile u korektivne m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procenat ostvarenih cilje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ffffff"/>
                </a:solidFill>
                <a:latin typeface="Times New Roman"/>
              </a:rPr>
              <a:t>broj sprovedenih preispitivanja od strane rukovodst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ff"/>
                </a:solidFill>
                <a:latin typeface="Times New Roman"/>
              </a:rPr>
              <a:t>e) Praćenje i mjerenje performansi procesa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0000" y="35272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Mjerenje i praćenje preformansi procesa su osnovni alati menadžmenta za vrednovanje procesa i iznalaženje mogućnosti za poboljšavanje u skladu sa ciljevima organiza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na osnovu utvrđenih performansi (parametara koji se mjere) potrebno je utvrditi i kriterijume za ocjenu uspješnosti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Vrši se periodično ili kontinual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Posebno treba utvrditi i važnost performansi (parametara) koje se mj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Rezultati mjerenja se mogu upisivati u tabele u kojim su upisane i ciljne vrijednosti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nformacije o ciljevima, praćenjima, mjerenjima su interesantne i za procjenu opravdanosti utvrđenih korektivnih mje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Content Placeholder 3" descr=""/>
          <p:cNvPicPr/>
          <p:nvPr/>
        </p:nvPicPr>
        <p:blipFill>
          <a:blip r:embed="rId1"/>
          <a:stretch/>
        </p:blipFill>
        <p:spPr>
          <a:xfrm>
            <a:off x="1893960" y="1765440"/>
            <a:ext cx="5667480" cy="1376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132160" y="1946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arametri za praćenje i m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renje procesa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za aktivnosti menadžment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2882880" cy="324000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2"/>
          <p:cNvGrpSpPr/>
          <p:nvPr/>
        </p:nvGrpSpPr>
        <p:grpSpPr>
          <a:xfrm>
            <a:off x="5364000" y="2060640"/>
            <a:ext cx="2779920" cy="3959280"/>
            <a:chOff x="5364000" y="2060640"/>
            <a:chExt cx="2779920" cy="3959280"/>
          </a:xfrm>
        </p:grpSpPr>
        <p:pic>
          <p:nvPicPr>
            <p:cNvPr id="223" name="Picture 7" descr=""/>
            <p:cNvPicPr/>
            <p:nvPr/>
          </p:nvPicPr>
          <p:blipFill>
            <a:blip r:embed="rId2"/>
            <a:stretch/>
          </p:blipFill>
          <p:spPr>
            <a:xfrm>
              <a:off x="5450040" y="3343680"/>
              <a:ext cx="2693880" cy="26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" descr=""/>
            <p:cNvPicPr/>
            <p:nvPr/>
          </p:nvPicPr>
          <p:blipFill>
            <a:blip r:embed="rId3"/>
            <a:stretch/>
          </p:blipFill>
          <p:spPr>
            <a:xfrm>
              <a:off x="5364000" y="2060640"/>
              <a:ext cx="2693880" cy="59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arametri za praćenje i m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renje procesa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za aktivnosti 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obezbjeđenja resurs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26" name="Group 11"/>
          <p:cNvGrpSpPr/>
          <p:nvPr/>
        </p:nvGrpSpPr>
        <p:grpSpPr>
          <a:xfrm>
            <a:off x="2987640" y="2637000"/>
            <a:ext cx="2585880" cy="3239640"/>
            <a:chOff x="2987640" y="2637000"/>
            <a:chExt cx="2585880" cy="3239640"/>
          </a:xfrm>
        </p:grpSpPr>
        <p:pic>
          <p:nvPicPr>
            <p:cNvPr id="227" name="Picture 8" descr=""/>
            <p:cNvPicPr/>
            <p:nvPr/>
          </p:nvPicPr>
          <p:blipFill>
            <a:blip r:embed="rId1"/>
            <a:stretch/>
          </p:blipFill>
          <p:spPr>
            <a:xfrm>
              <a:off x="2988720" y="3320640"/>
              <a:ext cx="2584800" cy="255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9" descr=""/>
            <p:cNvPicPr/>
            <p:nvPr/>
          </p:nvPicPr>
          <p:blipFill>
            <a:blip r:embed="rId2"/>
            <a:stretch/>
          </p:blipFill>
          <p:spPr>
            <a:xfrm>
              <a:off x="2987640" y="2637000"/>
              <a:ext cx="2584800" cy="71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3600" spc="-1" strike="noStrike">
                <a:solidFill>
                  <a:srgbClr val="00ffff"/>
                </a:solidFill>
                <a:latin typeface="Times New Roman"/>
              </a:rPr>
              <a:t>Veze između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8" name="Content Placeholder 3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6408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arametri za praćenje i m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renje procesa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za aktivnosti </a:t>
            </a:r>
            <a:r>
              <a:rPr b="1" lang="sr-Latn-CS" sz="3200" spc="-1" strike="noStrike">
                <a:solidFill>
                  <a:srgbClr val="00ffff"/>
                </a:solidFill>
                <a:latin typeface="Times New Roman"/>
              </a:rPr>
              <a:t>realizacije proizvod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2448000" cy="515448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12"/>
          <p:cNvGrpSpPr/>
          <p:nvPr/>
        </p:nvGrpSpPr>
        <p:grpSpPr>
          <a:xfrm>
            <a:off x="5292720" y="1469880"/>
            <a:ext cx="2664000" cy="5013000"/>
            <a:chOff x="5292720" y="1469880"/>
            <a:chExt cx="2664000" cy="5013000"/>
          </a:xfrm>
        </p:grpSpPr>
        <p:pic>
          <p:nvPicPr>
            <p:cNvPr id="232" name="Picture 8" descr=""/>
            <p:cNvPicPr/>
            <p:nvPr/>
          </p:nvPicPr>
          <p:blipFill>
            <a:blip r:embed="rId2"/>
            <a:stretch/>
          </p:blipFill>
          <p:spPr>
            <a:xfrm>
              <a:off x="5292720" y="1469880"/>
              <a:ext cx="2664000" cy="177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0" descr=""/>
            <p:cNvPicPr/>
            <p:nvPr/>
          </p:nvPicPr>
          <p:blipFill>
            <a:blip r:embed="rId3"/>
            <a:stretch/>
          </p:blipFill>
          <p:spPr>
            <a:xfrm>
              <a:off x="5299920" y="3173760"/>
              <a:ext cx="2643120" cy="330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700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Sposobnost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752480"/>
            <a:ext cx="7772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Odnosi se n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Sposobnost da se zadovolje ciljevi kvaliteta (ciljna sposobnos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Naslijeđena sposobnost da se neprekidno reprodukuje rezultat (sposobnost procesa u užem smisl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Analiza sposobnosti procesa je ispitivanje varijacija raspodjele karakteristika procesa sa ciljem ocjene sposobnosti procesa  za izradu proizvoda u granicama rasipanja utvrđenim tehničkim zahtjevi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Analiza sposobnosti procesa ili opreme se izvodi sa ciljem ocjene usaglašenosti parametara procesa ili opreme sa zahtjevima kvaliteta definisanim crtežima, specifikacijama, u procesu proizvodnje i u probnoj proizvodnji, pre i na početku serijske proizvodnje, ali i u cilju identifikovanja karakteristika procesa potrebnih za projektovanje mjera i primjenu metoda i tehnika unapređenja kvaliteta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Kroz analizu i ocenu sposobnosti procesa (opreme) se formira odgovor na pitanje: da li su operacija (proces), radnikoperator, mašina, alat i pribor u stanju da obezbede zahtevani nivo kvaliteta proizvoda</a:t>
            </a: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?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Za ocjenu sposobnosti procesa koriste s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Dijagram rasipan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Kontrolne kar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imes New Roman"/>
              </a:rPr>
              <a:t>Indeksi sposobnosti proce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70000" y="290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Dijagram rasipanja za ocjenu sposobnosti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62864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Za dijagram rasipanja potrebno je znati statističke parametare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rednje aritmetičke vrijednosti (aritmetičke sredin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Standardnog odstupanja 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čekivano rasipanje procesa odgovara normalnoj raspodjeli: u granicama DGT i GGT – donja i gornja granica tolerancije koje su utvrđene tehničkim specifikacijama treba da se nađe 99,73% usaglašenih proizvo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1"/>
          <a:stretch/>
        </p:blipFill>
        <p:spPr>
          <a:xfrm>
            <a:off x="755640" y="3255840"/>
            <a:ext cx="2492280" cy="1451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6197760" y="3255840"/>
            <a:ext cx="2744640" cy="1440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3"/>
          <a:stretch/>
        </p:blipFill>
        <p:spPr>
          <a:xfrm>
            <a:off x="3419640" y="4724280"/>
            <a:ext cx="2649240" cy="1962360"/>
          </a:xfrm>
          <a:prstGeom prst="rect">
            <a:avLst/>
          </a:prstGeom>
          <a:ln w="0">
            <a:noFill/>
          </a:ln>
        </p:spPr>
      </p:pic>
      <p:sp>
        <p:nvSpPr>
          <p:cNvPr id="241" name="TextBox 4"/>
          <p:cNvSpPr/>
          <p:nvPr/>
        </p:nvSpPr>
        <p:spPr>
          <a:xfrm>
            <a:off x="6197760" y="4734000"/>
            <a:ext cx="274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Times New Roman"/>
              </a:rPr>
              <a:t>Stvarno rasipanje (primjer za nesposoban proc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632880" y="4734000"/>
            <a:ext cx="22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400" spc="-1" strike="noStrike">
                <a:solidFill>
                  <a:srgbClr val="ffffff"/>
                </a:solidFill>
                <a:latin typeface="Times New Roman"/>
              </a:rPr>
              <a:t>Očekivano rasipanje proces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70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Kontrolne kart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44" name="Content Placeholder 9" descr=""/>
          <p:cNvPicPr/>
          <p:nvPr/>
        </p:nvPicPr>
        <p:blipFill>
          <a:blip r:embed="rId1"/>
          <a:stretch/>
        </p:blipFill>
        <p:spPr>
          <a:xfrm>
            <a:off x="3059280" y="4292640"/>
            <a:ext cx="3816360" cy="2371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169640" y="1258560"/>
            <a:ext cx="7745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2602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osnovu istorijskih podataka i statistike su određene kontrolne granice (granice rasipanja, najčešće na osnovu +-3</a:t>
            </a:r>
            <a:r>
              <a:rPr b="0" lang="el-GR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</a:t>
            </a: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) i centralna tendencij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60400" indent="-18576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donja kontrolna granica DKG (lower control limit LCL) najčešće na osnovu gornja kontrolna granica GKG (upper control limit UCL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860400" indent="-18576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centralna tendencija (srednja aritmetička vrijednos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03200" indent="-2602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uzima se više manjih uzoraka tokom vremen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03200" indent="-2602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ffffff"/>
                </a:solidFill>
                <a:latin typeface="Times New Roman"/>
              </a:rPr>
              <a:t>na osnovu uzorka sračunava se jedan ili više statističkih parametara )aritmetićka sredina, odstupanje i sl.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03200" indent="-2602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Ocjena procesa na osnovu kontrolnih karat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0400" indent="-18576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 pod statisti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om kontrolom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ko se 2/3 vrednosti kontrolisanih parametara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nalazi unutar centralne trećine kontrolne karte, u zoni širine ± </a:t>
            </a:r>
            <a:r>
              <a:rPr b="0" lang="el-GR" sz="1600" spc="-1" strike="noStrike">
                <a:solidFill>
                  <a:srgbClr val="ffffff"/>
                </a:solidFill>
                <a:latin typeface="Times New Roman"/>
              </a:rPr>
              <a:t>σ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 oko centralne linij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0400" indent="-185760">
              <a:lnSpc>
                <a:spcPct val="80000"/>
              </a:lnSpc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oces izvan statisti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e kontrol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03200" indent="-2602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468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Indeksi sposobnosti proces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69640" y="1344240"/>
            <a:ext cx="7745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posobnost procesa se 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češć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ispituje, analizira i ocenjuje koriš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ć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njem indeksa sposobnosti kao što s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deks potencijala ili preciznosti procesa Cp (mera rasipanja procesa)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- ukazuje na preciznost i rasipanje procesa, pa se često naziva i indeksom preciznosti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ndeks sposobnosti - ta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sti Cpk (mera podešenosti procesa)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</a:rPr>
              <a:t>Indeks sposobnosti procesa ukazuje na podešenost procesa (položaj procesa u odnosu na granice specifikaci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et pokazatelja sposobnosti procesa i opreme Cp, CPU, CPL, k i Cpk su potpun skup pokazatelja sposobnosti - kvaliteta procesa (tabela 1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Content Placeholder 4" descr=""/>
          <p:cNvPicPr/>
          <p:nvPr/>
        </p:nvPicPr>
        <p:blipFill>
          <a:blip r:embed="rId1"/>
          <a:stretch/>
        </p:blipFill>
        <p:spPr>
          <a:xfrm>
            <a:off x="1908000" y="3701880"/>
            <a:ext cx="6507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3200" spc="-1" strike="noStrike">
                <a:solidFill>
                  <a:srgbClr val="00ffff"/>
                </a:solidFill>
                <a:latin typeface="Times New Roman"/>
              </a:rPr>
              <a:t>Indeks potencijala i indeks sposobnosti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50" name="Content Placeholder 6" descr=""/>
          <p:cNvPicPr/>
          <p:nvPr/>
        </p:nvPicPr>
        <p:blipFill>
          <a:blip r:embed="rId1"/>
          <a:srcRect l="-3577" t="0" r="-3577" b="0"/>
          <a:stretch/>
        </p:blipFill>
        <p:spPr>
          <a:xfrm>
            <a:off x="250920" y="2205000"/>
            <a:ext cx="4332240" cy="2916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" descr=""/>
          <p:cNvPicPr/>
          <p:nvPr/>
        </p:nvPicPr>
        <p:blipFill>
          <a:blip r:embed="rId2"/>
          <a:stretch/>
        </p:blipFill>
        <p:spPr>
          <a:xfrm>
            <a:off x="5265720" y="2490840"/>
            <a:ext cx="3282840" cy="35859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"/>
          <p:cNvSpPr/>
          <p:nvPr/>
        </p:nvSpPr>
        <p:spPr>
          <a:xfrm>
            <a:off x="684360" y="530064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Times New Roman"/>
              </a:rPr>
              <a:t>Izvor:Krivokapić 2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4583160" y="6222960"/>
            <a:ext cx="39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ME" sz="1600" spc="-1" strike="noStrike">
                <a:solidFill>
                  <a:srgbClr val="ffffff"/>
                </a:solidFill>
                <a:latin typeface="Times New Roman"/>
              </a:rPr>
              <a:t>Izvor:  Lazić (</a:t>
            </a:r>
            <a:r>
              <a:rPr b="0" i="1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cqm.rs/2009/pdf/36/07.pdf</a:t>
            </a:r>
            <a:r>
              <a:rPr b="0" lang="sr-Latn-ME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246560" y="1405080"/>
            <a:ext cx="4884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deks sposobnosti - ta</a:t>
            </a:r>
            <a:r>
              <a:rPr b="0" lang="sr-Latn-ME" sz="14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sti Cpk (mera podešenosti procesa)</a:t>
            </a:r>
            <a:r>
              <a:rPr b="0" lang="sr-Latn-ME" sz="1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Indeks sposobnosti procesa ukazuje na podešenost procesa (položaj procesa u odnosu na granice specifikacije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640" y="6091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00ffff"/>
                </a:solidFill>
                <a:latin typeface="Times New Roman"/>
              </a:rPr>
              <a:t>Koristi od procesnog pristup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Integrisanje i postavka procesa radi postizanja planiranih rezult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Umsjeravanje na efektivnosti efikas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Stvaranje povjerenja kod korisnika i drugih zainteresovanih stranau vezi konzistentnih performansi organizaci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Javnost rada u organizacij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Smanjenje troškova i vremena ciklusa kro efektivno korišćenje resur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Bolji, konzistentni i predvidljivi rezulta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Stvaranje pretpostavki za poboljšavan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ffff"/>
                </a:solidFill>
                <a:latin typeface="Times New Roman"/>
              </a:rPr>
              <a:t>Stimulisanje aktivnog učešća zaposlenih i preciziranje njihove odgovorn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0912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Opšti zahtjevi za procese</a:t>
            </a:r>
            <a:r>
              <a:rPr b="1" lang="sr-Latn-CS" sz="2800" spc="-1" strike="noStrike">
                <a:solidFill>
                  <a:srgbClr val="00ffff"/>
                </a:solidFill>
                <a:latin typeface="Times New Roman"/>
              </a:rPr>
              <a:t> – standard ISO 9001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rganizacija mora da uspostavi, dokumentuje, primenjuje i održava QMS i da stalno poboljšava njegovu efektivnost, u skladu sa zahtjevima ovog međunarodnog standarda, a to znači da mora 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identifikuje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e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neophodne z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MS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i da ih primjenjuje u cijeloj organizacij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dredi redosled i me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đusobno djelovanje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ovih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dredi kriterijume i metode potrebne da se obezbijedi, da izvo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đ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enje ovih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 i upravljanje njima, bude efektivn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osigura raspoloživost resursa i informacija neophodnih za podršku izvođenju i praćenju ovih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prati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e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, mjeri i analizira njihove performanse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primjenjuje mjere potrebne za ostvarivanje planiranih rezultata i stalno poboljšavanje ovih 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Times New Roman"/>
              </a:rPr>
              <a:t>procesa</a:t>
            </a:r>
            <a:r>
              <a:rPr b="0" lang="hr-HR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) </a:t>
            </a: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entifikacija </a:t>
            </a: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rocesa</a:t>
            </a:r>
            <a:r>
              <a:rPr b="1" lang="sr-Latn-ME" sz="3600" spc="-1" strike="noStrike">
                <a:solidFill>
                  <a:srgbClr val="00ffff"/>
                </a:solidFill>
                <a:latin typeface="Times New Roman"/>
              </a:rPr>
              <a:t> /1/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752480"/>
            <a:ext cx="77724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rocesi treba da omoguće ostvarenje cilja organizacije, pa se njihova identifikacija vrši na osnovu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zahtjeva kup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olitike i ciljeva kvalit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Koraci u identifikaciji procesa sastoje se od identifikacij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očekivanja korisnika proc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Cilja proc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zla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Ulaz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rve aktivnosti  (koja se prva izvodi u procesu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oslednje aktivno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nterfejsa (veze sa drugim procesima i oblastim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otrebnih resur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Uticajnih fakt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Dodatnih elemenata (radnih uputstava i sl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ff"/>
                </a:solidFill>
                <a:latin typeface="Times New Roman"/>
              </a:rPr>
              <a:t>CILJ IDENTIFIKACIJE PROCESA JE UTVRDITI KATALOG PROCESA, NAROČITO ONIH KOJI SU ZNAČAJNI ZA ISPUNJENJE CILJEVA KVALIT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) </a:t>
            </a: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dentifikacija </a:t>
            </a:r>
            <a:r>
              <a:rPr b="1" lang="sr-Latn-CS" sz="3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ffff"/>
                </a:solidFill>
                <a:latin typeface="Times New Roman"/>
              </a:rPr>
              <a:t>procesa</a:t>
            </a:r>
            <a:r>
              <a:rPr b="1" lang="sr-Latn-ME" sz="3400" spc="-1" strike="noStrike">
                <a:solidFill>
                  <a:srgbClr val="00ffff"/>
                </a:solidFill>
                <a:latin typeface="Times New Roman"/>
              </a:rPr>
              <a:t> /2/</a:t>
            </a:r>
            <a:br>
              <a:rPr sz="3400"/>
            </a:br>
            <a:r>
              <a:rPr b="1" lang="sr-Latn-ME" sz="3400" spc="-1" strike="noStrike">
                <a:solidFill>
                  <a:srgbClr val="00ffff"/>
                </a:solidFill>
                <a:latin typeface="Times New Roman"/>
              </a:rPr>
              <a:t>Aspekti dekompozicije procesa</a:t>
            </a:r>
            <a:endParaRPr b="0" lang="en-US" sz="3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752480"/>
            <a:ext cx="811548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ivo menad</a:t>
            </a: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žment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top menadžment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menadžment na srednjem nivou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operativni menadžmen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Ciljevi procesa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strategijsk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taktički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operativn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Oblast (domen) proce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organizacija u cjelin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oslovna funkcija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otfunkcije i operacij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na osnovu ostvarivanja ciljeva*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makroprocesi – imaju ulogu u više funkcija (npr. Planiranje i razvoj novog proizvoda..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Mezoprocesi – obavljaju se pretežno u okviru jedne funkcije, ali uz pomoć ili sa djelimičnim učešćem uloga iz drugih funkcija (npr. Upravljanje troškovim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Mikroprocesi – obavljaju se u jednoj funkcionalnoj sredini (tzv. Operativni procesi proizvodnje, skladištenja i sl.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odjela procesa u organizaciji /1/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403280"/>
            <a:ext cx="77724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ema vrsti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menadžment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strateškog planiranja (uspostavljanje vizije misije, politike, ciljeva, komunikacija, resursa, praćenje troškova, analiza koristi i rizika, preispitivanje od strane rukovodstv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odrška menadžmentu poslovnih procesa (resursi za QMS),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administrativni procesi (za definisanje, održavanje i administrativno poboljšavanje QM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oslovni procesi (transformacija koja obezbjeđuje željeni izlaz)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 koji se odnosi na kupc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 projektovanja i razvoja (samo za organizacije koje samostalno vrše ove aktivnosti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 nabavk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 proizvodnje ili realizacij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za podršku (pomažu efikasno i efektivnu realizaciju poslovnih procesa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poboljšanja i inovacija (procesi u kojima se vrše provjere, analize, ocjene i generišu poboljšanja proizvoda, procesa i sistema u cjelini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ema značaju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ključni procesi – čine ih ključne aktivnosti poslovnih procesa u kojima se neposredno kreiraju vrijednosti za korisnik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otprocesi – detaljniji prikaz grupa aktivnosti, odnosno zadatak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ff"/>
                </a:solidFill>
                <a:latin typeface="Times New Roman"/>
              </a:rPr>
              <a:t>Podjela procesa u organizaciji /2/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0000" y="1403280"/>
            <a:ext cx="777240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ema  ISO 900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realizacije- procesi koji direktno utiču na zadovoljenje zahtjeva i potreba korisnika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podrške –procesi koji su podrška procesima realizacij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ffffff"/>
                </a:solidFill>
                <a:latin typeface="Times New Roman"/>
              </a:rPr>
              <a:t>Procesi upravljanja – procesi koji obezbjeđuju povezanost procesa realizacije  i podršk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2627280" y="3141720"/>
            <a:ext cx="437688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13:17:58Z</dcterms:created>
  <dc:creator>Gradjevinski fakultet Podgorica</dc:creator>
  <dc:description/>
  <dc:language>en-US</dc:language>
  <cp:lastModifiedBy>Toshiba</cp:lastModifiedBy>
  <dcterms:modified xsi:type="dcterms:W3CDTF">2019-05-09T11:38:30Z</dcterms:modified>
  <cp:revision>349</cp:revision>
  <dc:subject/>
  <dc:title>4. Upravljanje kvalitetom</dc:title>
</cp:coreProperties>
</file>