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98EB-8143-4E58-B33F-ECC65CAFC21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E061-4F7D-4EC0-9A52-DD63E75BE5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650960" y="685800"/>
            <a:ext cx="3252960" cy="2438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ka kvaliteta predstavlja dokument najvišeg rukovodstva koj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 odnosi na određene principe koje najviše rukovodstvo želi da saopšti zainteresovanim stranama i po kojima organizacija želi da bude upečatljiva. Možemo da kažemo 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ka kvaliteta predstavlja jednu izjavu najvišeg rukovodstva organizacije koja daje okvir za postavljanje opštih ciljeva sistema kvaliteta, principa na kojim se sistem kvaliteta organizacije zasniva i prav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a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ovanja. Ključ za sastavljanje politike kvaliteta jeste razumevanje zahteva korisni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 2011, str.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D7D-BE73-415B-A7DA-E2B98C406099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 2011, str.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5B8A-0B1E-4C59-AFA9-FBAD4811E098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Krivokapić, 2011, str. 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QMS se definiše i opisuje u dokumentima sistema kvaliteta, sa hijerarhijom kao na slici. Osnovna karakteristika je princip pozivanja na dokumente nižeg nivoa i prenošenje osnovnih principa i pravila iz dokumenta višeg nivoa u referencirane dokumente nižeg nivoa</a:t>
            </a:r>
            <a:r>
              <a:rPr b="0" i="1" lang="sr-Latn-CS" sz="1200" spc="-1" strike="noStrike" u="sng">
                <a:solidFill>
                  <a:srgbClr val="000000"/>
                </a:solidFill>
                <a:uFillTx/>
                <a:latin typeface="Arial"/>
              </a:rPr>
              <a:t>. (Napomena: mogu se grupisati nivoi iz ove hijerarhije u zavinosti od veličine organizacije , a prikazana hijerarhija daje nafleksibilniju organizacij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litika i ciljevi – dokumentovane izjave o namjerama organizacije i performansama u pogledu kvaliteta koje želi da ostvar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lovnik o kvalitetu – opis qms i međusobnog djelovanja pojedinih elemenata, upućivanje na dokumente nižeg niv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cedure – dokument koji opisuje procese, a sadrže i informacije o tome kako se obavljaju aktivnosti u toku procesa,nosioce aktivnosti, kao i potrebne resurse i zapise koji se generišu nakon realizacije aktivnos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dna uputstva- dokument koji detaljno opisuje metodološki odnosno tehnološki način (opis primijenjenih metoda i alata) odvijanja operacija ili zadataka u okviru pojedinih ključnih aktivnosti u određenom proces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putstva kontrolisanja i ispitivanja – dok. koji opisuje način verifikacije- kontrolisanja i ispitivanja proizv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lanovi kvaliteta- dokument koji definiše nalin primjene qms tokom realizacije specifičnog ugovora, projek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pecifikacije,- dokumenti koji sadrže specificirane zahtjeve za proizvod ili tehnološki pro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mjernice- dokument koji sadrži preporuke ili sugestij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crteže- Dokumenti koji sadrže grafičke podatke koji definišu proizvod ili proc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pisi- dokumenti koji sadrže objektivnu evidenciju o izvršenim aktivnostima, odnosno o ostvarenim rezultatima aktiv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ijerarhija i struktura sistema u vezi je sa hijerarhijom i strukturom dokumentacije, kako je prikazano na slici: Sistem---:proces----:aktivnost---: zadatak ili oper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istem je kao cjelina definisan u politici, ciljevima i u poslovniku o kvalite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Menadyment procesa  (struktura procesa, performanse i ciljevi) definisan je u procedurama, a kod manjih organizacija je moguce da procesi budu sastavni dio poslovnika o kvalitetu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dne aktivnosti sa metodologijom i tehnologijom izvršenja operacija su definisane u uputstv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d utvrdjivanja broja i redosljeda koraka mora se poći od samog procesa, imajući u vidu, sa jedne strane da njegov svaki korak mora dati odgovore na određena pitanja vezana za samu djelatnost, a  sa druge strane mora ispuniti zahtjeve naznačene u standardima za element QMS kojem pripada dotična procedu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1DB-3FE9-421D-B8D4-34E5BB9B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EDF-72E0-4598-96EC-66F672D5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A474-616E-4F29-81DD-E8ACA1C6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F06-776B-437A-B222-35AB9FC6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2FAF-BCA7-44A0-8E19-EFD5C464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9920-65B6-438F-BB23-FEB9C8F6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8899-18C9-4E95-9C1D-745896F0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A16F-D095-4E5F-BE2D-DC4A999E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782F-9C01-4400-BD65-90EAF06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7669-E053-4BD3-B04F-3BD186A4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981C-98D3-4C79-8C13-6CA2B53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0B6-1DF6-499A-A0BA-877706D7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E76-6805-4F55-B1B7-F0EA5D7A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6E06-F963-4648-A6C4-C4EF8B8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EB31-F3B3-4C9B-9C2A-FC5F5D4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EF02-5BEF-4081-A369-E374BB09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48A2-9FD9-4818-AACF-D294679D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756-C801-4DE5-8266-1188533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03F-3862-47B8-ABF0-6A31C74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D5C8-4702-4B48-86C0-C99E124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1AC4-36DD-4AEF-8749-819CABAA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A9D-5BE0-401C-859A-A3BE8C2D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687-8E57-42E4-8BAF-25BEAA7F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69A-7099-49EE-99E5-D8165DE4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BA67-F0E9-47E7-9E04-C98EEDC81A1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2306-B1F7-4BA8-AB84-3D7A2B47401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ppjedinstvo.co.rs/rs/wp-content/uploads/sites/2/2011/09/Politika-kvaliteta-20180001.pd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hyperlink" Target="http://www.vukovic.at/serbien/Alatnica%20Vukovic%20d.o.o.%20-%20%20POSLOVNIK%20KVALITETA.pdf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0160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DOKUMENTACIJA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QMS</a:t>
            </a: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43430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19"/>
          <p:cNvSpPr/>
          <p:nvPr/>
        </p:nvSpPr>
        <p:spPr>
          <a:xfrm>
            <a:off x="2514600" y="4953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RAVLJANJE KVALITETOM U GRA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ĐEVINARSTV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LOŽENI OBLIK TOK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170000" y="1968480"/>
            <a:ext cx="77724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84240" y="33300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OLITIKA I CILJEVI KVALITETA;</a:t>
            </a:r>
            <a:br>
              <a:rPr sz="2600"/>
            </a:b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OSLOVNIK O KVALIT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84240" y="1476000"/>
            <a:ext cx="7958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olitika: sveobuhvatne namjere vođenja organizacije koje se odnose na kvalitet, utvrđene  i iskazane od strane najvišeg rukovodtsva, (obavezno preispitivanje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Njome se utvrđuje stepen prestiža proizvoda na tržištu, definiše se stepen zadovoljstva zahteva potrošača; određuje se oblik odnosa sa proizvođačem opreme; utvrđuje se oblik veze sa potrošačima; utvrđuje se oblik rukovođenja...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primjer na linku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mppjedinstvo.co.rs/rs/wp-content/uploads/sites/2/2011/09/Politika-kvaliteta-20180001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Ciljevi kvaliteta: ono što se traži ili želi postići u vezi sa kvalitetom – proističu iz politike kvaliteta, mogu biti različiti na različitim nivoima organizacije, a na operativnom nivou moraju biti kvantifikovan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2" descr="Politika kvaliteta"/>
          <p:cNvPicPr/>
          <p:nvPr/>
        </p:nvPicPr>
        <p:blipFill>
          <a:blip r:embed="rId2"/>
          <a:srcRect l="2532" t="4068" r="3582" b="6534"/>
          <a:stretch/>
        </p:blipFill>
        <p:spPr>
          <a:xfrm>
            <a:off x="3203640" y="3467160"/>
            <a:ext cx="46227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politike i ciljeva kvalitet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9" name="Content Placeholder 9" descr=""/>
          <p:cNvPicPr/>
          <p:nvPr/>
        </p:nvPicPr>
        <p:blipFill>
          <a:blip r:embed="rId1"/>
          <a:stretch/>
        </p:blipFill>
        <p:spPr>
          <a:xfrm>
            <a:off x="324000" y="2019240"/>
            <a:ext cx="4248000" cy="4459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2"/>
          <a:srcRect l="0" t="0" r="0" b="6489"/>
          <a:stretch/>
        </p:blipFill>
        <p:spPr>
          <a:xfrm>
            <a:off x="4664160" y="2019240"/>
            <a:ext cx="43909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slovnik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oslovnik o kvalitetu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edstavlja dokument prvog nivoa QMS, a sadrž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is c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ine sistema kvalitet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brazloženje za isključivanja pojedinih zaht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va standard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umentovane procedure (za procese) ili pozivanje na nji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is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edosljeda i interakcije procesa koji su u okviru menadžmenta kvaliteto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amjena – opis QMS i dokument za sprovođenje i održavanje toga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ruktura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 procesima organiz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 zahtjevima standar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Generalni sadržaj poslovnik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vodni dio (opšte o poslovniku i organizaciji, izjavu o politici kvaliteta, referentne standarde ei propise, definicije i posjmov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adni dio koji sadrži propise, postupke i uputstva po poglavljima koja su definisana u sadržaju poslovni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2536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sadržaja poslovnika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4" name="Content Placeholder 3" descr=""/>
          <p:cNvPicPr/>
          <p:nvPr/>
        </p:nvPicPr>
        <p:blipFill>
          <a:blip r:embed="rId1"/>
          <a:stretch/>
        </p:blipFill>
        <p:spPr>
          <a:xfrm>
            <a:off x="1143000" y="1814400"/>
            <a:ext cx="3600360" cy="4896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011560" y="1844640"/>
            <a:ext cx="3780000" cy="4894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1168560" y="1127160"/>
            <a:ext cx="743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vukovic.at/serbien/Alatnica%20Vukovic%20d.o.o.%20-%20%20POSLOVNIK%20KVALITETA.pd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OCEDURE I UPUTSTV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970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Procedure –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 opštim crtama data uputstva  ko, šta, kako radi; Definiše se tehnologija rada u procesu, utvršuju se aktivnosti i obaveze izvršilaca i dokumentacija koja se koristi ili stv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Radna uputstva – detaljna uputstva  za način obavljanja rada na konkretnom radnom mjestu (ako je procedura detaljna može se izostaviti) </a:t>
            </a: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„BOLJE JE LJUDE OBUĆAVATI I UVJEŽBAVATI, A NE PISATI IM DETALJNA UPUTSTVA !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oristiti tekstualne opise, šeme grafikone, tabe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tandard ISO 900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adži zahteve za šest obaveznih sistemskih dokumentovanih procedur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dokumen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zapis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internih prov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upravljanja neusagl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šenim proizvod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korektivnih 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57480" indent="-343080">
              <a:spcBef>
                <a:spcPts val="400"/>
              </a:spcBef>
              <a:buClr>
                <a:srgbClr val="00ffff"/>
              </a:buClr>
              <a:buSzPct val="12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dura preventivnih 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PRIMJER NASLOVNE STRANE PROCEDURE ZA UPRAVLJANJE DOKUMENTIM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2340000" y="1197000"/>
            <a:ext cx="47275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ZAPISI O KVALITETU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71280" y="2349000"/>
            <a:ext cx="7970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Zapisi o kvalitetu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 – evidencija o kvalitetu – dokazi o usaglašenosti sa zahtjevima (i sa zahtjevima QMS i sa zahtjevima za proizvo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ME" sz="1600" spc="-1" strike="noStrike">
                <a:solidFill>
                  <a:srgbClr val="ffffff"/>
                </a:solidFill>
                <a:latin typeface="Times New Roman"/>
              </a:rPr>
              <a:t>Upravljanje zapisima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(identifikovanje, zaštita, pretraživanje, vrijeme čuvanja i odbacivanje) mora biti u skladu sa uspostavljenom p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ocedur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m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upravljanja dokument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Moraju biti čitki, laki za identifikovanje i pretraživa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TRUKTURA NASTANKA ZAPI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36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84240" y="33300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Times New Roman"/>
              </a:rPr>
              <a:t>Opšti zahtjevi za </a:t>
            </a:r>
            <a:r>
              <a:rPr b="1" lang="sr-Latn-CS" sz="2600" spc="-1" strike="noStrike">
                <a:solidFill>
                  <a:srgbClr val="00ffff"/>
                </a:solidFill>
                <a:latin typeface="Times New Roman"/>
              </a:rPr>
              <a:t>dokumentaciju – standard ISO 900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4240" y="1476000"/>
            <a:ext cx="795816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acija sistema menadžmenta kvalitetom </a:t>
            </a:r>
            <a:r>
              <a:rPr b="1" lang="hr-HR" sz="1600" spc="-1" strike="noStrike">
                <a:solidFill>
                  <a:srgbClr val="ffffff"/>
                </a:solidFill>
                <a:latin typeface="Times New Roman"/>
              </a:rPr>
              <a:t>mora</a:t>
            </a: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 da sadrž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ovane izjave o politici kvaliteta i ciljevima kvalitet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poslovnik o kvalitetu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ovane procedure i zapise koje zahteva ovaj međunarodni standar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imes New Roman"/>
              </a:rPr>
              <a:t>dokumente, uključujući i zapise,  utvrđene od organizacije kao potrebne da osigura efektivno planiranje , izvođenje i upravljanje svojim procesi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dokumenti mogu biti na bilo kojem medi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kumentacija doprinos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stvarivanju usaglašenosti sa zahtjevima korisnika i poboljšavanju kvalit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premi odgovarajuće obu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onovljivosti i sledljiv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varanju objektivnog dok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Vrednovanju efektivnosti i stalne pogodnosti QMS-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umentacija predstavlja osnov za ocjenjivanje menadžmenta kvaliteta od strane sertifikacionog tije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amjene dokumentacij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aopštavanje informac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kaz usaglaše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Širenje zn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84240" y="1249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600" spc="-1" strike="noStrike">
                <a:solidFill>
                  <a:srgbClr val="00ffff"/>
                </a:solidFill>
                <a:latin typeface="Times New Roman"/>
              </a:rPr>
              <a:t>Principi i karakteristike </a:t>
            </a:r>
            <a:r>
              <a:rPr b="1" lang="sr-Latn-CS" sz="2600" spc="-1" strike="noStrike">
                <a:solidFill>
                  <a:srgbClr val="00ffff"/>
                </a:solidFill>
                <a:latin typeface="Times New Roman"/>
              </a:rPr>
              <a:t>dokumentacij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12880" y="1268280"/>
            <a:ext cx="81151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ncip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Hijerarhija – uređenost dokumenta prema nivoima i njihova međusobna usaglašeno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ntegracija – dokumentaciije koja proističe iz različitih sistema menadžmenta (npr. sistema  menadžmenta kvalitetom i sistema menadžmeta životnom sredinom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mjenljivost – mogućnost primjene u različitim situacijama i potrebama korisnika, uz fleksibilnost u izmje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vrsishodnost – mora biti koncipirana tako da ostvari cilj zbog koga je nastala (da saopšti informacije, prući dokaze, širi znanj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arakterist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važavanje specifičnosti organizacije – ne može se proto prepisati nečija dokumentacij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no šifriranje dokumen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an nivo podrazumijevanja (ne treba isticati nebitno, a zanemarivati = podrazumijevati značaj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dekvatan nivo primjenljivosti – razumljiva korisniku koji je onda bez problema može primjenjiva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ključenost korisnika – značjana u fazi izrade, kako bi bio što veći nivo primjenljiv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Uključenost zainteresovanih strana u pogledu usaglašavanja dokument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orma dokumentacije –ne smije biti važnija od suštine - primjeniti procesni pris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bjegavanje redudantnosti (ponavljanja) usljed koje može doći do neusaglašenosti u dokumentaciji, teškoća u inoviranju i s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1360" y="220680"/>
            <a:ext cx="8231040" cy="76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HIJERARHIJA DOKUMENTACIJE QMS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1" name="Content Placeholder 6" descr=""/>
          <p:cNvPicPr/>
          <p:nvPr/>
        </p:nvPicPr>
        <p:blipFill>
          <a:blip r:embed="rId1"/>
          <a:stretch/>
        </p:blipFill>
        <p:spPr>
          <a:xfrm>
            <a:off x="1498680" y="1365120"/>
            <a:ext cx="71769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1360" y="549360"/>
            <a:ext cx="823104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IZRADA DOKUMENTACIJE QMS-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3996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reiranje dokumentacije može bit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 vrha ka dn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d dna ka vrh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ombinovano (susret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Neophodno je analizirati postojeću dokumentaciju (prilikom uvođenja QM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a bi se koristila pozitivna iskustva i rješenja iz dosadašnje praks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a bi se izbjeglo ponavljanje greša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Faze izrade (Krivokapić, 2011, str. 151)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dentifikacija potrebe za dokument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rada dokum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Dobijanje saglasnos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Izdavanje dokumen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Primj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STRUKTURA UOBIČAJENE DOKUMENTACIJE I QMS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07860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METODOLOGIJA DOKUMENTOVANJ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804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d projektovanja procesa nije dovoljno samo prik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ti redosljed odvijanja aktivnosti, v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se moraju dati i informacij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 o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5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siocima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a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jima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otrebnim resursim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l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im i 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im dokumentima itd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Procesi se obave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no predstavljaju u graf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m obliku, a mogu da sadr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e i tekstualne opise aktivno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Opis aktivnosti u grafi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kom prikazu toka procesa 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ože se vršiti na dva način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ekstualnim opisom, prema redosljedu aktivnosti u procesu u okviru dokumentovane procedure il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specifikacijom zadataka i operacija u okviru grafičkog dijagrama toka procesa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vaki korak u procesu (aktivnost) mora imati jasno definisan ulaz i izlaz i svojim sadržajem pokazati da je neophodan, da su zahtjevi adekvatno opisani, da izvršioci imaju potrebne resurse, da se performanse mogu mjeriti i da su povratne sprege adekvatne. Pri tome, treba izbjegavati detaljne opise kako se ili po čemu se nešto radi, nego se pozvati na brojeve uputstava, standarda, propisa, tehnologija itd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Ukoliko se predviđaju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 moraju se specificirati oznake obrazaca koji se koriste kao zapisi nakon što se određena aktivnost realizuje.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vaka procedura ima obavezno grafički prikaz dok uputstvo ima samo tekstualni opis načina ili metoda odvijanja aktivnosti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PRIMJER SIMBOLA ZA OZNAČAVANJE TOK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977080" cy="3551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5589360"/>
            <a:ext cx="777240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uz ovakav način predstavljanja toka procesa, uvijek mora postojati i tekstualni opis svakog koraka, odnosno aktivnosti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EDNOSTAVAN OBLIK TOKA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170000" y="1994040"/>
            <a:ext cx="777240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3:17:58Z</dcterms:created>
  <dc:creator>Gradjevinski fakultet Podgorica</dc:creator>
  <dc:description/>
  <dc:language>en-US</dc:language>
  <cp:lastModifiedBy>Toshiba</cp:lastModifiedBy>
  <dcterms:modified xsi:type="dcterms:W3CDTF">2019-05-09T12:29:49Z</dcterms:modified>
  <cp:revision>355</cp:revision>
  <dc:subject/>
  <dc:title>4. Upravljanje kvalitetom</dc:title>
</cp:coreProperties>
</file>